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0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40.jpeg" ContentType="image/jpeg"/>
  <Override PartName="/ppt/media/image29.jpeg" ContentType="image/jpeg"/>
  <Override PartName="/ppt/media/image7.gif" ContentType="image/gif"/>
  <Override PartName="/ppt/media/image6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579-99D1-4252-88FD-FA3A4417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FB7-B9CD-41D0-9F1A-826F85C9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B19-28C8-4153-A59D-4C39C2A3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EE-CF3A-4365-A057-DE027BFB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006-28E1-4D2F-930F-FE0BC0B3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4B7-338D-46AA-920F-2B566E3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F5D-4830-41CA-9C32-ECB5673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C50-22EF-4B3A-A71E-C29F451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E4D-BA55-4C96-8A09-2BDE0BD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E91-EDE2-447D-B987-317BEB61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5A8-EC3A-4571-914B-6434C59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360-01F7-4009-A8E5-5CA5A20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E2E-2BE9-4269-9EAB-817B5C3A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8862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 Naum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Bojana Mi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anaumovic@yahoo.com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ojanamilasinovi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. Dr Veljko Milut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m@etf.bg.ac.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438280"/>
            <a:ext cx="80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CI Express System Architectu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CI Bus Bas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4657680" cy="3666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44440" y="175248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 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System Memory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333760" y="2209680"/>
            <a:ext cx="144756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209680"/>
            <a:ext cx="16002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49528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601992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019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0880" y="6324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erformance 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DD-5C3B-4851-A7DB-D44ABBFBB9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s software backwards compat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PCI and PCI-X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upport chip-to-chip interconnect and board-to-board interconnect via cards and connectors,                   which structure is similar to PCI cards and conn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3114720" cy="27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D98-8A47-4E20-B1F5-F34E40EEC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serial interconnect between two devices results in fewer pins per device packag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hich means that PCI Express chip and board design cost and board design complexity are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2666880" cy="238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5EE-F952-4A3D-A6D4-F67D9C89F6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23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9480" y="3886200"/>
            <a:ext cx="7696080" cy="2284920"/>
            <a:chOff x="609480" y="3886200"/>
            <a:chExt cx="7696080" cy="228492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09480" y="3886200"/>
              <a:ext cx="76960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745200" y="4251960"/>
              <a:ext cx="7430040" cy="1412280"/>
              <a:chOff x="745200" y="4251960"/>
              <a:chExt cx="7430040" cy="14122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5200" y="4268160"/>
                <a:ext cx="743004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5200" y="4268160"/>
                <a:ext cx="743004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720" y="4290840"/>
                <a:ext cx="5425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04240" y="4251960"/>
                <a:ext cx="611100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2280" y="4783320"/>
                <a:ext cx="637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25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26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26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27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7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743200" y="11430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692-C2C8-4A33-992D-DD538D516B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Express Top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162560" cy="484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5486400" y="1143000"/>
            <a:ext cx="2666880" cy="1143000"/>
          </a:xfrm>
          <a:prstGeom prst="wedgeRoundRectCallout">
            <a:avLst>
              <a:gd name="adj1" fmla="val -86962"/>
              <a:gd name="adj2" fmla="val 7027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he Root Complex is the connection between CPU, memory and PCI Express fabri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5486400"/>
            <a:ext cx="1752480" cy="990720"/>
          </a:xfrm>
          <a:prstGeom prst="wedgeRoundRectCallout">
            <a:avLst>
              <a:gd name="adj1" fmla="val 43750"/>
              <a:gd name="adj2" fmla="val -7676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Endpoints are peripheral devices, such as Ethernet,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34290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53341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486400"/>
            <a:ext cx="1371600" cy="762120"/>
          </a:xfrm>
          <a:prstGeom prst="wedgeRoundRectCallout">
            <a:avLst>
              <a:gd name="adj1" fmla="val -74421"/>
              <a:gd name="adj2" fmla="val -756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342900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64008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229600" y="342864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1600200" cy="838440"/>
          </a:xfrm>
          <a:prstGeom prst="wedgeRoundRectCallout">
            <a:avLst>
              <a:gd name="adj1" fmla="val 14680"/>
              <a:gd name="adj2" fmla="val 11893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545-5309-4068-A9DD-6690ECC79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53080" y="1143000"/>
            <a:ext cx="21258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05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13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457200" y="3048120"/>
            <a:ext cx="8381520" cy="2817720"/>
            <a:chOff x="457200" y="3048120"/>
            <a:chExt cx="8381520" cy="2817720"/>
          </a:xfrm>
        </p:grpSpPr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457200" y="3048120"/>
              <a:ext cx="8381520" cy="28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"/>
            <p:cNvGrpSpPr/>
            <p:nvPr/>
          </p:nvGrpSpPr>
          <p:grpSpPr>
            <a:xfrm>
              <a:off x="605160" y="3499200"/>
              <a:ext cx="8091720" cy="1741320"/>
              <a:chOff x="605160" y="3499200"/>
              <a:chExt cx="8091720" cy="1741320"/>
            </a:xfrm>
          </p:grpSpPr>
          <p:sp>
            <p:nvSpPr>
              <p:cNvPr id="321" name=""/>
              <p:cNvSpPr/>
              <p:nvPr/>
            </p:nvSpPr>
            <p:spPr>
              <a:xfrm>
                <a:off x="605160" y="3519000"/>
                <a:ext cx="8091720" cy="1721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160" y="3519000"/>
                <a:ext cx="8091720" cy="1449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6800" y="3547080"/>
                <a:ext cx="591120" cy="13107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49520" y="3499200"/>
                <a:ext cx="6655320" cy="14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29920" y="4194720"/>
                <a:ext cx="69426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329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337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343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345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C92-8658-4564-930A-9DC5877F26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 and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CI Express interconnect consists of either x1, x2, x4, x8, x16 or x32 point-to-point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Lane consists of signal pairs in each direc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x1 Link consists of 1 Lane or 1 differential signal p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Link supports a symmetric number of La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438640" cy="330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523880" y="4724280"/>
            <a:ext cx="601992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3EB-44EA-4DC8-84A4-18A3865AE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l Sign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positive voltage difference between the D+ and D- terminals implies Logical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negative voltage difference between D+ and D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mplies a Logical 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 voltage difference between D+ and 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hat the driver is in the high-impedance tristate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6172200" cy="1725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403848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44D-BC42-4379-9142-48FE6348B4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et Based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e transmitted and received serially and byte striped across the available Lanes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Lanes implemented on a Link the faster a packet is transmitted and the greater the bandwidth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124080" cy="23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91D-E921-47B6-9216-B7D53F4180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Traffic Cl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Quality of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oS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eature of PCI Express refers to the capability of routing packe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om different applications through the fab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differentiated prior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packets contain a Traffic Class (TC) number between 0 and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ckets are routed through the fabric                   by utilizing virtual channel (VC) buff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ffic Class is individually mapped                        to a Virtual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5738760"/>
            <a:ext cx="3581280" cy="17640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3505320" y="4800600"/>
            <a:ext cx="2057040" cy="1905120"/>
            <a:chOff x="3505320" y="4800600"/>
            <a:chExt cx="2057040" cy="1905120"/>
          </a:xfrm>
        </p:grpSpPr>
        <p:sp>
          <p:nvSpPr>
            <p:cNvPr id="366" name="Gear"/>
            <p:cNvSpPr/>
            <p:nvPr/>
          </p:nvSpPr>
          <p:spPr>
            <a:xfrm>
              <a:off x="4645800" y="4800600"/>
              <a:ext cx="916560" cy="873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5160600"/>
              <a:ext cx="1096200" cy="1044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6320" y="5545800"/>
              <a:ext cx="1218240" cy="1159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105520" y="5715000"/>
            <a:ext cx="4038480" cy="2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902-CE55-4A4D-AB77-428C02A247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5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6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7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8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629400" y="1295280"/>
            <a:ext cx="23623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89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948-51CB-467E-8B58-0B8875EF1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acket transmitted by a device is received into a VC buffer in the receiver at the opposite end of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protocol by which the transmitter ensures that the receiving buffer has sufficient space available is referred to as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receiver periodically updates the transmitter with information regarding the amount of buffer space it has available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28312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4A2-D586-4A7A-80FA-696527986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8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39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457200" y="1828800"/>
            <a:ext cx="7848360" cy="2284920"/>
            <a:chOff x="457200" y="1828800"/>
            <a:chExt cx="7848360" cy="2284920"/>
          </a:xfrm>
        </p:grpSpPr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457200" y="1828800"/>
              <a:ext cx="784836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1" name=""/>
            <p:cNvGrpSpPr/>
            <p:nvPr/>
          </p:nvGrpSpPr>
          <p:grpSpPr>
            <a:xfrm>
              <a:off x="595800" y="2194560"/>
              <a:ext cx="7576920" cy="1412280"/>
              <a:chOff x="595800" y="2194560"/>
              <a:chExt cx="7576920" cy="1412280"/>
            </a:xfrm>
          </p:grpSpPr>
          <p:sp>
            <p:nvSpPr>
              <p:cNvPr id="402" name=""/>
              <p:cNvSpPr/>
              <p:nvPr/>
            </p:nvSpPr>
            <p:spPr>
              <a:xfrm>
                <a:off x="595800" y="2210760"/>
                <a:ext cx="757692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5800" y="2210760"/>
                <a:ext cx="757692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2760" y="2233440"/>
                <a:ext cx="5533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73920" y="2194560"/>
                <a:ext cx="623196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68000" y="2725920"/>
                <a:ext cx="6500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41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1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3276720" y="4191120"/>
            <a:ext cx="236196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2DA-E9D7-4DDF-878D-0A015F5C2D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and reception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Lay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200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3962520"/>
            <a:ext cx="1676520" cy="53316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48006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5486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66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24172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D57-9975-4610-B860-5E6FC4D91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LP Packet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00200"/>
            <a:ext cx="3200400" cy="228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read (M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read (I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write (IO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read (Cfg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write (Cfg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4724280"/>
            <a:ext cx="320040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write (M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ssage (Msg, Ms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297180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51814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5DC-AEEE-49D4-9E7D-4626F161E0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ad trans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le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629240" cy="35053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52280" y="1447920"/>
            <a:ext cx="1828800" cy="990360"/>
          </a:xfrm>
          <a:prstGeom prst="wedgeRoundRectCallout">
            <a:avLst>
              <a:gd name="adj1" fmla="val 38800"/>
              <a:gd name="adj2" fmla="val 126921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1295280"/>
            <a:ext cx="2514600" cy="990720"/>
          </a:xfrm>
          <a:prstGeom prst="wedgeRoundRectCallout">
            <a:avLst>
              <a:gd name="adj1" fmla="val -78597"/>
              <a:gd name="adj2" fmla="val 143750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, switches, bridges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439-3AD2-494A-9BEB-4D43326C2B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recep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464832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577-E6AC-44C7-BCD3-5B7E41B964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osted Memory Write 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error handl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NOT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02F-8BDE-48C9-A47C-10700E5438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osted Message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outing is based on message’s address, device ID or routed im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46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5D1-09D5-44D7-96DF-379A22AB0E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57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465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473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481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380880" y="3886200"/>
            <a:ext cx="8381880" cy="2284920"/>
            <a:chOff x="380880" y="3886200"/>
            <a:chExt cx="8381880" cy="2284920"/>
          </a:xfrm>
        </p:grpSpPr>
        <p:pic>
          <p:nvPicPr>
            <p:cNvPr id="487" name="" descr=""/>
            <p:cNvPicPr/>
            <p:nvPr/>
          </p:nvPicPr>
          <p:blipFill>
            <a:blip r:embed="rId6"/>
            <a:stretch/>
          </p:blipFill>
          <p:spPr>
            <a:xfrm>
              <a:off x="380880" y="3886200"/>
              <a:ext cx="83818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528840" y="4251960"/>
              <a:ext cx="8092080" cy="1412280"/>
              <a:chOff x="528840" y="4251960"/>
              <a:chExt cx="8092080" cy="1412280"/>
            </a:xfrm>
          </p:grpSpPr>
          <p:sp>
            <p:nvSpPr>
              <p:cNvPr id="489" name=""/>
              <p:cNvSpPr/>
              <p:nvPr/>
            </p:nvSpPr>
            <p:spPr>
              <a:xfrm>
                <a:off x="528840" y="4268160"/>
                <a:ext cx="809208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8840" y="4268160"/>
                <a:ext cx="809208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0480" y="4290840"/>
                <a:ext cx="5911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573200" y="4251960"/>
                <a:ext cx="665568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53600" y="4783320"/>
                <a:ext cx="6942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95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97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2" name="" descr=""/>
          <p:cNvPicPr/>
          <p:nvPr/>
        </p:nvPicPr>
        <p:blipFill>
          <a:blip r:embed="rId8"/>
          <a:stretch/>
        </p:blipFill>
        <p:spPr>
          <a:xfrm>
            <a:off x="2819520" y="1523880"/>
            <a:ext cx="3200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921-5C3D-4BA2-AB88-78B22AF5B4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Device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7116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095880" y="1676520"/>
            <a:ext cx="2362320" cy="457200"/>
          </a:xfrm>
          <a:prstGeom prst="wedgeRoundRectCallout">
            <a:avLst>
              <a:gd name="adj1" fmla="val -126745"/>
              <a:gd name="adj2" fmla="val 27222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mit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4419720"/>
            <a:ext cx="2743200" cy="609480"/>
          </a:xfrm>
          <a:prstGeom prst="wedgeEllipseCallout">
            <a:avLst>
              <a:gd name="adj1" fmla="val -183796"/>
              <a:gd name="adj2" fmla="val -26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ceive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08B-C387-4E1A-A44E-9DEB89127F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9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0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1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380880" y="1752480"/>
            <a:ext cx="8153280" cy="2361240"/>
            <a:chOff x="380880" y="1752480"/>
            <a:chExt cx="8153280" cy="2361240"/>
          </a:xfrm>
        </p:grpSpPr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380880" y="1752480"/>
              <a:ext cx="8153280" cy="236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24880" y="2130480"/>
              <a:ext cx="7871400" cy="1459080"/>
              <a:chOff x="524880" y="2130480"/>
              <a:chExt cx="7871400" cy="1459080"/>
            </a:xfrm>
          </p:grpSpPr>
          <p:sp>
            <p:nvSpPr>
              <p:cNvPr id="138" name=""/>
              <p:cNvSpPr/>
              <p:nvPr/>
            </p:nvSpPr>
            <p:spPr>
              <a:xfrm>
                <a:off x="524880" y="2147040"/>
                <a:ext cx="7871400" cy="1442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880" y="2147040"/>
                <a:ext cx="7871400" cy="12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4360" y="2170440"/>
                <a:ext cx="574920" cy="10983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40800" y="2130480"/>
                <a:ext cx="647388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26960" y="2684880"/>
                <a:ext cx="67536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124080" y="4038480"/>
            <a:ext cx="2667240" cy="22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28C-F83E-4E71-AA25-C6FAA1FA4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ayers Key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486400" cy="5099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09480" y="2743200"/>
            <a:ext cx="2438640" cy="990720"/>
          </a:xfrm>
          <a:prstGeom prst="wedgeRoundRectCallout">
            <a:avLst>
              <a:gd name="adj1" fmla="val 102342"/>
              <a:gd name="adj2" fmla="val -166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core logic or endpoint core logic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114800"/>
            <a:ext cx="220968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thernet control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B 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A8E-7B41-476E-AABD-298A99DBCF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73720" cy="4102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57200" y="2514600"/>
            <a:ext cx="1447920" cy="609480"/>
          </a:xfrm>
          <a:prstGeom prst="wedgeRoundRectCallout">
            <a:avLst>
              <a:gd name="adj1" fmla="val 98574"/>
              <a:gd name="adj2" fmla="val 13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ig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2590920"/>
            <a:ext cx="1447920" cy="609480"/>
          </a:xfrm>
          <a:prstGeom prst="wedgeRoundRectCallout">
            <a:avLst>
              <a:gd name="adj1" fmla="val -93310"/>
              <a:gd name="adj2" fmla="val 129166"/>
              <a:gd name="adj3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C1F-295F-4D7E-AF6F-E2C74E7171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receive po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314800" cy="13622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2324160" cy="13622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715000" y="1219320"/>
            <a:ext cx="3276720" cy="1523880"/>
          </a:xfrm>
          <a:prstGeom prst="wedgeRoundRectCallout">
            <a:avLst>
              <a:gd name="adj1" fmla="val -174032"/>
              <a:gd name="adj2" fmla="val 7323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 DW or 4 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ains address, TLP type, transfer size, requester ID/completer ID, ta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3200400"/>
            <a:ext cx="3124080" cy="380880"/>
          </a:xfrm>
          <a:prstGeom prst="wedgeRoundRectCallout">
            <a:avLst>
              <a:gd name="adj1" fmla="val -122509"/>
              <a:gd name="adj2" fmla="val -629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nerated by this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E24-BF2D-4E24-AC47-EFC65019A4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Data Lin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receive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4309920" cy="3808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5181480"/>
            <a:ext cx="4310280" cy="3812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95880" y="3200400"/>
            <a:ext cx="2133720" cy="1295280"/>
          </a:xfrm>
          <a:prstGeom prst="cloudCallout">
            <a:avLst>
              <a:gd name="adj1" fmla="val -89657"/>
              <a:gd name="adj2" fmla="val -96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nerated and ap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3429000"/>
            <a:ext cx="2666880" cy="533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eserves a copy of T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41936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468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00064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BDC-2D9C-4794-975A-C29C309135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hysical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r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and Electrical Physical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900760" cy="1571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90720" y="3200400"/>
            <a:ext cx="3657600" cy="1219320"/>
          </a:xfrm>
          <a:prstGeom prst="cloudCallout">
            <a:avLst>
              <a:gd name="adj1" fmla="val -36935"/>
              <a:gd name="adj2" fmla="val 13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cessing packets before transmission on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3200400"/>
            <a:ext cx="3657600" cy="1219320"/>
          </a:xfrm>
          <a:prstGeom prst="cloudCallout">
            <a:avLst>
              <a:gd name="adj1" fmla="val -94402"/>
              <a:gd name="adj2" fmla="val 131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alog interface of the PL that connects to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5F2-A3BD-412D-91BE-17D60236EC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038480" cy="2863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191120" cy="2948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191120" y="2895480"/>
            <a:ext cx="1752480" cy="381240"/>
          </a:xfrm>
          <a:custGeom>
            <a:avLst/>
            <a:gdLst>
              <a:gd name="textAreaLeft" fmla="*/ 332280 w 1752480"/>
              <a:gd name="textAreaRight" fmla="*/ 1140480 w 17524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-3611202"/>
                <a:lnTo>
                  <a:pt x="21413" y="4590"/>
                </a:lnTo>
                <a:lnTo>
                  <a:pt x="17276" y="0"/>
                </a:lnTo>
                <a:lnTo>
                  <a:pt x="12765" y="4590"/>
                </a:lnTo>
                <a:lnTo>
                  <a:pt x="16208" y="4590"/>
                </a:lnTo>
                <a:arcTo wR="8198" hR="21600" stAng="1788798" swAng="3470248"/>
                <a:lnTo>
                  <a:pt x="9079" y="21475"/>
                </a:lnTo>
                <a:arcTo wR="8198" hR="21600" stAng="5540953" swAng="5259047"/>
                <a:close/>
              </a:path>
              <a:path fill="darkenLess"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140953"/>
                <a:lnTo>
                  <a:pt x="9079" y="21475"/>
                </a:lnTo>
                <a:arcTo wR="8198" hR="21600" stAng="5540953" swAng="5259047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704-22E5-413C-B4ED-8D45B17548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753080" y="2057400"/>
            <a:ext cx="35701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5ED-3892-4BA5-A8AB-1A3E3D5E53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CI Express is the third-gene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Component Inter-connect technology for a wide range of syste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periph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used in mobile, desktop, workstation,     server and communication platfor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19520" y="4952880"/>
            <a:ext cx="3047760" cy="14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35C-EFDD-48C6-8EAB-299420AECD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mplements a serial, point-to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al simplex  type interconne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vides significantly high performanc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igh speed  an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us, compared with predecessor bu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2648160" cy="227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54864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ransmission and reception data 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b/s, but it is expected that frequency to double to 5 Gbits/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FF6-4680-44A2-A4BE-78880FAA8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7600" y="1600200"/>
            <a:ext cx="5068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ultiple P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e interconnected via switch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 large number of 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can be connected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gehter in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range from a          2-port device to an n-port device, where each port connects          to a PCI Express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C38-2783-44EC-8471-8090ABF61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520" y="2362320"/>
            <a:ext cx="8000640" cy="2208600"/>
            <a:chOff x="533520" y="2362320"/>
            <a:chExt cx="8000640" cy="22086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3520" y="2362320"/>
              <a:ext cx="8000640" cy="220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674640" y="2715840"/>
              <a:ext cx="7723800" cy="1364760"/>
              <a:chOff x="674640" y="2715840"/>
              <a:chExt cx="7723800" cy="1364760"/>
            </a:xfrm>
          </p:grpSpPr>
          <p:sp>
            <p:nvSpPr>
              <p:cNvPr id="159" name=""/>
              <p:cNvSpPr/>
              <p:nvPr/>
            </p:nvSpPr>
            <p:spPr>
              <a:xfrm>
                <a:off x="674640" y="2731320"/>
                <a:ext cx="7723800" cy="13492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640" y="2731320"/>
                <a:ext cx="7723800" cy="113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3040" y="2753280"/>
                <a:ext cx="564120" cy="102744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71480" y="2715840"/>
                <a:ext cx="6352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61960" y="3229560"/>
                <a:ext cx="662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67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83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2438280" y="4343400"/>
            <a:ext cx="35053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198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011-F8C4-4969-A9CF-BA2690DD4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CI vs PCI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Throw Away What is Goo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ep I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1752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96252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362320" y="2971800"/>
            <a:ext cx="5181480" cy="1295280"/>
          </a:xfrm>
          <a:custGeom>
            <a:avLst/>
            <a:gdLst>
              <a:gd name="textAreaLeft" fmla="*/ 906480 w 5181480"/>
              <a:gd name="textAreaRight" fmla="*/ 3756600 w 5181480"/>
              <a:gd name="textAreaTop" fmla="*/ 173520 h 1295280"/>
              <a:gd name="textAreaBottom" fmla="*/ 112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F75-DA4E-4A16-BBA1-185F7F23B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P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I and PCI-X buses are multi-drop,  parallel, interconnect buses,                       in which many devices share on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0102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59A-282B-48FC-80F3-577F43F69E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0:32:28Z</dcterms:created>
  <dc:creator>Bojana</dc:creator>
  <dc:description/>
  <dc:language>en-US</dc:language>
  <cp:lastModifiedBy>Bojana</cp:lastModifiedBy>
  <dcterms:modified xsi:type="dcterms:W3CDTF">2005-11-11T16:27:05Z</dcterms:modified>
  <cp:revision>57</cp:revision>
  <dc:subject/>
  <dc:title>Slide 1</dc:title>
</cp:coreProperties>
</file>