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wmf" ContentType="image/x-wmf"/>
  <Override PartName="/ppt/media/image24.gif" ContentType="image/gif"/>
  <Override PartName="/ppt/media/image32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5.wmf" ContentType="image/x-wmf"/>
  <Override PartName="/ppt/media/image10.jpeg" ContentType="image/jpeg"/>
  <Override PartName="/ppt/media/image12.jpeg" ContentType="image/jpeg"/>
  <Override PartName="/ppt/media/image13.png" ContentType="image/png"/>
  <Override PartName="/ppt/media/image3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40.jpeg" ContentType="image/jpeg"/>
  <Override PartName="/ppt/media/image29.jpeg" ContentType="image/jpeg"/>
  <Override PartName="/ppt/media/image7.gif" ContentType="image/gif"/>
  <Override PartName="/ppt/media/image6.png" ContentType="image/png"/>
  <Override PartName="/ppt/media/image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media/image25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31.jpeg" ContentType="image/jpeg"/>
  <Override PartName="/ppt/media/image1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613-313C-4614-9ABA-1480084F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F5BA-DD4A-4CF0-8EC0-19EDB8AC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3710-FD46-4B23-BDC0-3E43D69F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B30F-8944-484E-B195-9720BB83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D176-133B-4EED-A3D7-3AB6963A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98DF-6734-4A6B-94CB-AF12F014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993C-EC63-4853-8431-1D1BA2A3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D087-FDE5-466F-A594-FF92A4A7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ECCF-78B9-4D81-8047-3C1BAF65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1F92-B885-4B15-8F77-7331D00E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CD0E-B47A-41D3-AA71-FAB3711D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EBF5-6FD1-4AB0-946C-B05B1955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A6CF-B82A-46C2-8543-7C63AACF2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1920" y="3886200"/>
            <a:ext cx="8991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 Naumov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ć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Bojana Mi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š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ov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ć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nanaumovic@yahoo.com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ojanamilasinovic@yah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hool of Electrical Engineer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School of Electrical 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elgrad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University of Bel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. Dr Veljko Milutinov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vm@etf.bg.ac.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hool of Electrical 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el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2438280"/>
            <a:ext cx="8029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CI Express System Architectur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99ff"/>
                </a:solidFill>
                <a:latin typeface="Times New Roman"/>
              </a:rPr>
              <a:t>PCI vs PCI Expres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CI Bus Based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057400" y="2514600"/>
            <a:ext cx="4657680" cy="3666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144440" y="1752480"/>
            <a:ext cx="64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ics B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System Memory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333760" y="2209680"/>
            <a:ext cx="1447560" cy="129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2209680"/>
            <a:ext cx="1600200" cy="129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4724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34320" y="4038480"/>
            <a:ext cx="152280" cy="2057400"/>
          </a:xfrm>
          <a:custGeom>
            <a:avLst/>
            <a:gdLst>
              <a:gd name="textAreaLeft" fmla="*/ 0 w 152280"/>
              <a:gd name="textAreaRight" fmla="*/ 5508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8120" y="4952880"/>
            <a:ext cx="3124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6019920"/>
            <a:ext cx="3124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4952880"/>
            <a:ext cx="0" cy="1067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4952880"/>
            <a:ext cx="0" cy="1067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60199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00880" y="63244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performance periph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278F-893B-4071-A403-19F98A5D90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99ff"/>
                </a:solidFill>
                <a:latin typeface="Times New Roman"/>
              </a:rPr>
              <a:t>PCI vs PCI Expres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ati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CI Express is software backwards compati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ith PCI and PCI-X syste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upport chip-to-chip interconnect and board-to-board interconnect via cards and connectors,                   which structure is similar to PCI cards and conn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666880" y="3657600"/>
            <a:ext cx="3114720" cy="277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A2B8-EF68-4B2F-A604-A84CC08C2E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99ff"/>
                </a:solidFill>
                <a:latin typeface="Times New Roman"/>
              </a:rPr>
              <a:t>PCI vs PCI Expres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 serial interconnect between two devices results in fewer pins per device package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which means that PCI Express chip and board design cost and board design complexity are re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743200" y="4191120"/>
            <a:ext cx="2666880" cy="238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2C27-2944-4526-A46D-78823F901E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NewRoman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33520" y="2057400"/>
            <a:ext cx="6019560" cy="654120"/>
            <a:chOff x="533520" y="2057400"/>
            <a:chExt cx="6019560" cy="654120"/>
          </a:xfrm>
        </p:grpSpPr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533520" y="205740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" name=""/>
            <p:cNvGrpSpPr/>
            <p:nvPr/>
          </p:nvGrpSpPr>
          <p:grpSpPr>
            <a:xfrm>
              <a:off x="639720" y="2162160"/>
              <a:ext cx="5811480" cy="404640"/>
              <a:chOff x="639720" y="2162160"/>
              <a:chExt cx="5811480" cy="404640"/>
            </a:xfrm>
          </p:grpSpPr>
          <p:sp>
            <p:nvSpPr>
              <p:cNvPr id="238" name=""/>
              <p:cNvSpPr/>
              <p:nvPr/>
            </p:nvSpPr>
            <p:spPr>
              <a:xfrm>
                <a:off x="639720" y="216684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9720" y="216684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91200" y="217332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389600" y="216216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vs PCI Expres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31920" y="220644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3" name=""/>
          <p:cNvGrpSpPr/>
          <p:nvPr/>
        </p:nvGrpSpPr>
        <p:grpSpPr>
          <a:xfrm>
            <a:off x="609480" y="3886200"/>
            <a:ext cx="7696080" cy="2284920"/>
            <a:chOff x="609480" y="3886200"/>
            <a:chExt cx="7696080" cy="2284920"/>
          </a:xfrm>
        </p:grpSpPr>
        <p:pic>
          <p:nvPicPr>
            <p:cNvPr id="244" name="" descr=""/>
            <p:cNvPicPr/>
            <p:nvPr/>
          </p:nvPicPr>
          <p:blipFill>
            <a:blip r:embed="rId3"/>
            <a:stretch/>
          </p:blipFill>
          <p:spPr>
            <a:xfrm>
              <a:off x="609480" y="3886200"/>
              <a:ext cx="7696080" cy="228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5" name=""/>
            <p:cNvGrpSpPr/>
            <p:nvPr/>
          </p:nvGrpSpPr>
          <p:grpSpPr>
            <a:xfrm>
              <a:off x="745200" y="4251960"/>
              <a:ext cx="7430040" cy="1412280"/>
              <a:chOff x="745200" y="4251960"/>
              <a:chExt cx="7430040" cy="14122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5200" y="4268160"/>
                <a:ext cx="7430040" cy="139608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45200" y="4268160"/>
                <a:ext cx="7430040" cy="1174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10720" y="4290840"/>
                <a:ext cx="542520" cy="106308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704240" y="4251960"/>
                <a:ext cx="6111000" cy="12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Topolog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02280" y="4783320"/>
                <a:ext cx="6374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" name=""/>
          <p:cNvGrpSpPr/>
          <p:nvPr/>
        </p:nvGrpSpPr>
        <p:grpSpPr>
          <a:xfrm>
            <a:off x="1143000" y="3733920"/>
            <a:ext cx="6095880" cy="653760"/>
            <a:chOff x="1143000" y="3733920"/>
            <a:chExt cx="6095880" cy="653760"/>
          </a:xfrm>
        </p:grpSpPr>
        <p:pic>
          <p:nvPicPr>
            <p:cNvPr id="252" name="" descr=""/>
            <p:cNvPicPr/>
            <p:nvPr/>
          </p:nvPicPr>
          <p:blipFill>
            <a:blip r:embed="rId4"/>
            <a:stretch/>
          </p:blipFill>
          <p:spPr>
            <a:xfrm>
              <a:off x="1143000" y="3733920"/>
              <a:ext cx="6095880" cy="65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3" name=""/>
            <p:cNvGrpSpPr/>
            <p:nvPr/>
          </p:nvGrpSpPr>
          <p:grpSpPr>
            <a:xfrm>
              <a:off x="1250640" y="3838320"/>
              <a:ext cx="5885280" cy="403920"/>
              <a:chOff x="1250640" y="3838320"/>
              <a:chExt cx="5885280" cy="403920"/>
            </a:xfrm>
          </p:grpSpPr>
          <p:sp>
            <p:nvSpPr>
              <p:cNvPr id="254" name=""/>
              <p:cNvSpPr/>
              <p:nvPr/>
            </p:nvSpPr>
            <p:spPr>
              <a:xfrm>
                <a:off x="1250640" y="3842640"/>
                <a:ext cx="5885280" cy="39960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50640" y="3842640"/>
                <a:ext cx="5885280" cy="336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302480" y="3849120"/>
                <a:ext cx="429840" cy="30420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10240" y="3838320"/>
                <a:ext cx="4840200" cy="3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Overvie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850400" y="3882240"/>
                <a:ext cx="5049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1523880" y="4572000"/>
            <a:ext cx="6248520" cy="654120"/>
            <a:chOff x="1523880" y="4572000"/>
            <a:chExt cx="6248520" cy="654120"/>
          </a:xfrm>
        </p:grpSpPr>
        <p:pic>
          <p:nvPicPr>
            <p:cNvPr id="260" name="" descr=""/>
            <p:cNvPicPr/>
            <p:nvPr/>
          </p:nvPicPr>
          <p:blipFill>
            <a:blip r:embed="rId5"/>
            <a:stretch/>
          </p:blipFill>
          <p:spPr>
            <a:xfrm>
              <a:off x="1523880" y="4572000"/>
              <a:ext cx="624852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1" name=""/>
            <p:cNvGrpSpPr/>
            <p:nvPr/>
          </p:nvGrpSpPr>
          <p:grpSpPr>
            <a:xfrm>
              <a:off x="1634040" y="4676760"/>
              <a:ext cx="6032520" cy="404640"/>
              <a:chOff x="1634040" y="4676760"/>
              <a:chExt cx="6032520" cy="404640"/>
            </a:xfrm>
          </p:grpSpPr>
          <p:sp>
            <p:nvSpPr>
              <p:cNvPr id="262" name=""/>
              <p:cNvSpPr/>
              <p:nvPr/>
            </p:nvSpPr>
            <p:spPr>
              <a:xfrm>
                <a:off x="1634040" y="4681440"/>
                <a:ext cx="603252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634040" y="4681440"/>
                <a:ext cx="603252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687320" y="4687920"/>
                <a:ext cx="4406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412720" y="4676760"/>
                <a:ext cx="49615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ransaction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48920" y="4721040"/>
                <a:ext cx="5175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1905120" y="5486400"/>
            <a:ext cx="6476760" cy="654120"/>
            <a:chOff x="1905120" y="5486400"/>
            <a:chExt cx="6476760" cy="654120"/>
          </a:xfrm>
        </p:grpSpPr>
        <p:pic>
          <p:nvPicPr>
            <p:cNvPr id="268" name="" descr=""/>
            <p:cNvPicPr/>
            <p:nvPr/>
          </p:nvPicPr>
          <p:blipFill>
            <a:blip r:embed="rId6"/>
            <a:stretch/>
          </p:blipFill>
          <p:spPr>
            <a:xfrm>
              <a:off x="1905120" y="5486400"/>
              <a:ext cx="64767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9" name=""/>
            <p:cNvGrpSpPr/>
            <p:nvPr/>
          </p:nvGrpSpPr>
          <p:grpSpPr>
            <a:xfrm>
              <a:off x="2019240" y="5591160"/>
              <a:ext cx="6252840" cy="404640"/>
              <a:chOff x="2019240" y="5591160"/>
              <a:chExt cx="6252840" cy="404640"/>
            </a:xfrm>
          </p:grpSpPr>
          <p:sp>
            <p:nvSpPr>
              <p:cNvPr id="270" name=""/>
              <p:cNvSpPr/>
              <p:nvPr/>
            </p:nvSpPr>
            <p:spPr>
              <a:xfrm>
                <a:off x="2019240" y="5595840"/>
                <a:ext cx="62528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019240" y="5595840"/>
                <a:ext cx="62528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074320" y="5602320"/>
                <a:ext cx="45648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826360" y="5591160"/>
                <a:ext cx="514260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Device Layer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656440" y="5635440"/>
                <a:ext cx="5364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304920" y="1295280"/>
            <a:ext cx="6019560" cy="654120"/>
            <a:chOff x="304920" y="1295280"/>
            <a:chExt cx="6019560" cy="654120"/>
          </a:xfrm>
        </p:grpSpPr>
        <p:pic>
          <p:nvPicPr>
            <p:cNvPr id="276" name="" descr=""/>
            <p:cNvPicPr/>
            <p:nvPr/>
          </p:nvPicPr>
          <p:blipFill>
            <a:blip r:embed="rId7"/>
            <a:stretch/>
          </p:blipFill>
          <p:spPr>
            <a:xfrm>
              <a:off x="304920" y="129528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7" name=""/>
            <p:cNvGrpSpPr/>
            <p:nvPr/>
          </p:nvGrpSpPr>
          <p:grpSpPr>
            <a:xfrm>
              <a:off x="411120" y="1400040"/>
              <a:ext cx="5811480" cy="404640"/>
              <a:chOff x="411120" y="1400040"/>
              <a:chExt cx="5811480" cy="404640"/>
            </a:xfrm>
          </p:grpSpPr>
          <p:sp>
            <p:nvSpPr>
              <p:cNvPr id="278" name=""/>
              <p:cNvSpPr/>
              <p:nvPr/>
            </p:nvSpPr>
            <p:spPr>
              <a:xfrm>
                <a:off x="411120" y="140472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11120" y="140472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62600" y="141120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61000" y="140004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Introduct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003320" y="144432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2743200" y="1143000"/>
            <a:ext cx="342900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CDB3-13F6-4D16-B3C1-45873AA953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 Express Topolog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7162560" cy="4841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7" name=""/>
          <p:cNvSpPr/>
          <p:nvPr/>
        </p:nvSpPr>
        <p:spPr>
          <a:xfrm>
            <a:off x="5486400" y="1143000"/>
            <a:ext cx="2666880" cy="1143000"/>
          </a:xfrm>
          <a:prstGeom prst="wedgeRoundRectCallout">
            <a:avLst>
              <a:gd name="adj1" fmla="val -86962"/>
              <a:gd name="adj2" fmla="val 70277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The Root Complex is the connection between CPU, memory and PCI Express fabri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5486400"/>
            <a:ext cx="1752480" cy="990720"/>
          </a:xfrm>
          <a:prstGeom prst="wedgeRoundRectCallout">
            <a:avLst>
              <a:gd name="adj1" fmla="val 43750"/>
              <a:gd name="adj2" fmla="val -7676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Endpoints are peripheral devices, such as Ethernet, US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14800" y="3429000"/>
            <a:ext cx="1219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4120" y="3429000"/>
            <a:ext cx="0" cy="190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3429000"/>
            <a:ext cx="0" cy="190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5334120"/>
            <a:ext cx="1219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5486400"/>
            <a:ext cx="1371600" cy="762120"/>
          </a:xfrm>
          <a:prstGeom prst="wedgeRoundRectCallout">
            <a:avLst>
              <a:gd name="adj1" fmla="val -74421"/>
              <a:gd name="adj2" fmla="val -75625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erarchy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" y="3429000"/>
            <a:ext cx="7315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" y="3429000"/>
            <a:ext cx="0" cy="297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6400800"/>
            <a:ext cx="7315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8229600" y="3428640"/>
            <a:ext cx="0" cy="297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1981080"/>
            <a:ext cx="1600200" cy="838440"/>
          </a:xfrm>
          <a:prstGeom prst="wedgeRoundRectCallout">
            <a:avLst>
              <a:gd name="adj1" fmla="val 14680"/>
              <a:gd name="adj2" fmla="val 118939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D94F-EF08-4B05-A15F-27F9DF0416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NewRoman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6553080" y="1143000"/>
            <a:ext cx="2125800" cy="2185920"/>
          </a:xfrm>
          <a:prstGeom prst="rect">
            <a:avLst/>
          </a:prstGeom>
          <a:ln w="0">
            <a:noFill/>
          </a:ln>
        </p:spPr>
      </p:pic>
      <p:grpSp>
        <p:nvGrpSpPr>
          <p:cNvPr id="302" name=""/>
          <p:cNvGrpSpPr/>
          <p:nvPr/>
        </p:nvGrpSpPr>
        <p:grpSpPr>
          <a:xfrm>
            <a:off x="533520" y="2057400"/>
            <a:ext cx="6019560" cy="654120"/>
            <a:chOff x="533520" y="2057400"/>
            <a:chExt cx="6019560" cy="654120"/>
          </a:xfrm>
        </p:grpSpPr>
        <p:pic>
          <p:nvPicPr>
            <p:cNvPr id="303" name="" descr=""/>
            <p:cNvPicPr/>
            <p:nvPr/>
          </p:nvPicPr>
          <p:blipFill>
            <a:blip r:embed="rId3"/>
            <a:stretch/>
          </p:blipFill>
          <p:spPr>
            <a:xfrm>
              <a:off x="533520" y="205740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4" name=""/>
            <p:cNvGrpSpPr/>
            <p:nvPr/>
          </p:nvGrpSpPr>
          <p:grpSpPr>
            <a:xfrm>
              <a:off x="639720" y="2162160"/>
              <a:ext cx="5811480" cy="404640"/>
              <a:chOff x="639720" y="2162160"/>
              <a:chExt cx="5811480" cy="404640"/>
            </a:xfrm>
          </p:grpSpPr>
          <p:sp>
            <p:nvSpPr>
              <p:cNvPr id="305" name=""/>
              <p:cNvSpPr/>
              <p:nvPr/>
            </p:nvSpPr>
            <p:spPr>
              <a:xfrm>
                <a:off x="639720" y="216684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39720" y="216684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1200" y="217332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389600" y="216216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vs PCI Expres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231920" y="220644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838080" y="2895480"/>
            <a:ext cx="5943600" cy="654120"/>
            <a:chOff x="838080" y="2895480"/>
            <a:chExt cx="5943600" cy="654120"/>
          </a:xfrm>
        </p:grpSpPr>
        <p:pic>
          <p:nvPicPr>
            <p:cNvPr id="311" name="" descr=""/>
            <p:cNvPicPr/>
            <p:nvPr/>
          </p:nvPicPr>
          <p:blipFill>
            <a:blip r:embed="rId4"/>
            <a:stretch/>
          </p:blipFill>
          <p:spPr>
            <a:xfrm>
              <a:off x="838080" y="2895480"/>
              <a:ext cx="594360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2" name=""/>
            <p:cNvGrpSpPr/>
            <p:nvPr/>
          </p:nvGrpSpPr>
          <p:grpSpPr>
            <a:xfrm>
              <a:off x="942840" y="3000240"/>
              <a:ext cx="5738040" cy="404640"/>
              <a:chOff x="942840" y="3000240"/>
              <a:chExt cx="5738040" cy="404640"/>
            </a:xfrm>
          </p:grpSpPr>
          <p:sp>
            <p:nvSpPr>
              <p:cNvPr id="313" name=""/>
              <p:cNvSpPr/>
              <p:nvPr/>
            </p:nvSpPr>
            <p:spPr>
              <a:xfrm>
                <a:off x="942840" y="3004920"/>
                <a:ext cx="57380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942840" y="3004920"/>
                <a:ext cx="57380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993600" y="3011400"/>
                <a:ext cx="4190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683360" y="3000240"/>
                <a:ext cx="471924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opolog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527480" y="3044520"/>
                <a:ext cx="4923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457200" y="3048120"/>
            <a:ext cx="8381520" cy="2817720"/>
            <a:chOff x="457200" y="3048120"/>
            <a:chExt cx="8381520" cy="2817720"/>
          </a:xfrm>
        </p:grpSpPr>
        <p:pic>
          <p:nvPicPr>
            <p:cNvPr id="319" name="" descr=""/>
            <p:cNvPicPr/>
            <p:nvPr/>
          </p:nvPicPr>
          <p:blipFill>
            <a:blip r:embed="rId5"/>
            <a:stretch/>
          </p:blipFill>
          <p:spPr>
            <a:xfrm>
              <a:off x="457200" y="3048120"/>
              <a:ext cx="8381520" cy="281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0" name=""/>
            <p:cNvGrpSpPr/>
            <p:nvPr/>
          </p:nvGrpSpPr>
          <p:grpSpPr>
            <a:xfrm>
              <a:off x="605160" y="3499200"/>
              <a:ext cx="8091720" cy="1741320"/>
              <a:chOff x="605160" y="3499200"/>
              <a:chExt cx="8091720" cy="1741320"/>
            </a:xfrm>
          </p:grpSpPr>
          <p:sp>
            <p:nvSpPr>
              <p:cNvPr id="321" name=""/>
              <p:cNvSpPr/>
              <p:nvPr/>
            </p:nvSpPr>
            <p:spPr>
              <a:xfrm>
                <a:off x="605160" y="3519000"/>
                <a:ext cx="8091720" cy="172152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5160" y="3519000"/>
                <a:ext cx="8091720" cy="1449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6800" y="3547080"/>
                <a:ext cx="591120" cy="13107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649520" y="3499200"/>
                <a:ext cx="6655320" cy="148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Overvie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429920" y="4194720"/>
                <a:ext cx="694260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1523880" y="4572000"/>
            <a:ext cx="6248520" cy="654120"/>
            <a:chOff x="1523880" y="4572000"/>
            <a:chExt cx="6248520" cy="654120"/>
          </a:xfrm>
        </p:grpSpPr>
        <p:pic>
          <p:nvPicPr>
            <p:cNvPr id="327" name="" descr=""/>
            <p:cNvPicPr/>
            <p:nvPr/>
          </p:nvPicPr>
          <p:blipFill>
            <a:blip r:embed="rId6"/>
            <a:stretch/>
          </p:blipFill>
          <p:spPr>
            <a:xfrm>
              <a:off x="1523880" y="4572000"/>
              <a:ext cx="624852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8" name=""/>
            <p:cNvGrpSpPr/>
            <p:nvPr/>
          </p:nvGrpSpPr>
          <p:grpSpPr>
            <a:xfrm>
              <a:off x="1634040" y="4676760"/>
              <a:ext cx="6032520" cy="404640"/>
              <a:chOff x="1634040" y="4676760"/>
              <a:chExt cx="6032520" cy="404640"/>
            </a:xfrm>
          </p:grpSpPr>
          <p:sp>
            <p:nvSpPr>
              <p:cNvPr id="329" name=""/>
              <p:cNvSpPr/>
              <p:nvPr/>
            </p:nvSpPr>
            <p:spPr>
              <a:xfrm>
                <a:off x="1634040" y="4681440"/>
                <a:ext cx="603252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634040" y="4681440"/>
                <a:ext cx="603252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687320" y="4687920"/>
                <a:ext cx="4406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412720" y="4676760"/>
                <a:ext cx="49615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ransaction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248920" y="4721040"/>
                <a:ext cx="5175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4" name=""/>
          <p:cNvGrpSpPr/>
          <p:nvPr/>
        </p:nvGrpSpPr>
        <p:grpSpPr>
          <a:xfrm>
            <a:off x="1905120" y="5486400"/>
            <a:ext cx="6476760" cy="654120"/>
            <a:chOff x="1905120" y="5486400"/>
            <a:chExt cx="6476760" cy="654120"/>
          </a:xfrm>
        </p:grpSpPr>
        <p:pic>
          <p:nvPicPr>
            <p:cNvPr id="335" name="" descr=""/>
            <p:cNvPicPr/>
            <p:nvPr/>
          </p:nvPicPr>
          <p:blipFill>
            <a:blip r:embed="rId7"/>
            <a:stretch/>
          </p:blipFill>
          <p:spPr>
            <a:xfrm>
              <a:off x="1905120" y="5486400"/>
              <a:ext cx="64767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6" name=""/>
            <p:cNvGrpSpPr/>
            <p:nvPr/>
          </p:nvGrpSpPr>
          <p:grpSpPr>
            <a:xfrm>
              <a:off x="2019240" y="5591160"/>
              <a:ext cx="6252840" cy="404640"/>
              <a:chOff x="2019240" y="5591160"/>
              <a:chExt cx="6252840" cy="404640"/>
            </a:xfrm>
          </p:grpSpPr>
          <p:sp>
            <p:nvSpPr>
              <p:cNvPr id="337" name=""/>
              <p:cNvSpPr/>
              <p:nvPr/>
            </p:nvSpPr>
            <p:spPr>
              <a:xfrm>
                <a:off x="2019240" y="5595840"/>
                <a:ext cx="62528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019240" y="5595840"/>
                <a:ext cx="62528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074320" y="5602320"/>
                <a:ext cx="45648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826360" y="5591160"/>
                <a:ext cx="514260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Device Layer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656440" y="5635440"/>
                <a:ext cx="5364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2" name=""/>
          <p:cNvGrpSpPr/>
          <p:nvPr/>
        </p:nvGrpSpPr>
        <p:grpSpPr>
          <a:xfrm>
            <a:off x="304920" y="1295280"/>
            <a:ext cx="6019560" cy="654120"/>
            <a:chOff x="304920" y="1295280"/>
            <a:chExt cx="6019560" cy="654120"/>
          </a:xfrm>
        </p:grpSpPr>
        <p:pic>
          <p:nvPicPr>
            <p:cNvPr id="343" name="" descr=""/>
            <p:cNvPicPr/>
            <p:nvPr/>
          </p:nvPicPr>
          <p:blipFill>
            <a:blip r:embed="rId8"/>
            <a:stretch/>
          </p:blipFill>
          <p:spPr>
            <a:xfrm>
              <a:off x="304920" y="129528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4" name=""/>
            <p:cNvGrpSpPr/>
            <p:nvPr/>
          </p:nvGrpSpPr>
          <p:grpSpPr>
            <a:xfrm>
              <a:off x="411120" y="1400040"/>
              <a:ext cx="5811480" cy="404640"/>
              <a:chOff x="411120" y="1400040"/>
              <a:chExt cx="5811480" cy="404640"/>
            </a:xfrm>
          </p:grpSpPr>
          <p:sp>
            <p:nvSpPr>
              <p:cNvPr id="345" name=""/>
              <p:cNvSpPr/>
              <p:nvPr/>
            </p:nvSpPr>
            <p:spPr>
              <a:xfrm>
                <a:off x="411120" y="140472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11120" y="140472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62600" y="141120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161000" y="140004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Introduct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003320" y="144432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E197-359A-46D7-976A-A82BF91255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99ff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6699ff"/>
                </a:solidFill>
                <a:latin typeface="Arial"/>
              </a:rPr>
              <a:t>CI</a:t>
            </a:r>
            <a:r>
              <a:rPr b="1" lang="sr-Latn-CS" sz="4000" spc="-1" strike="noStrike">
                <a:solidFill>
                  <a:srgbClr val="6699ff"/>
                </a:solidFill>
                <a:latin typeface="Arial"/>
              </a:rPr>
              <a:t> Express Overview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k and L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 PCI Express interconnect consists of either x1, x2, x4, x8, x16 or x32 point-to-point Lin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 Lane consists of signal pairs in each direct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 x1 Link consists of 1 Lane or 1 differential signal pa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 each dire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Link supports a symmetric number of La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 each direction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3352680" y="4419720"/>
            <a:ext cx="2438640" cy="3301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1523880" y="4724280"/>
            <a:ext cx="6019920" cy="156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3152-93E0-4359-9899-8D18B894D2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99ff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6699ff"/>
                </a:solidFill>
                <a:latin typeface="Arial"/>
              </a:rPr>
              <a:t>CI</a:t>
            </a:r>
            <a:r>
              <a:rPr b="1" lang="sr-Latn-CS" sz="4000" spc="-1" strike="noStrike">
                <a:solidFill>
                  <a:srgbClr val="6699ff"/>
                </a:solidFill>
                <a:latin typeface="Arial"/>
              </a:rPr>
              <a:t> Express Overview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ferential Signa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 positive voltage difference between the D+ and D- terminals implies Logical 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 negative voltage difference between D+ and D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mplies a Logical 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o voltage difference between D+ and D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ea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hat the driver is in the high-impedance tristate con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1295280" y="4572000"/>
            <a:ext cx="6172200" cy="17254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362320" y="4191120"/>
            <a:ext cx="4038480" cy="28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7DA8-AD22-4B9E-ACDE-4833880154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99ff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6699ff"/>
                </a:solidFill>
                <a:latin typeface="Arial"/>
              </a:rPr>
              <a:t>CI</a:t>
            </a:r>
            <a:r>
              <a:rPr b="1" lang="sr-Latn-CS" sz="4000" spc="-1" strike="noStrike">
                <a:solidFill>
                  <a:srgbClr val="6699ff"/>
                </a:solidFill>
                <a:latin typeface="Arial"/>
              </a:rPr>
              <a:t> Express Overview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cket Based Proto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are transmitted and received serially and byte striped across the available Lanes of the Lin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Lanes implemented on a Link the faster a packet is transmitted and the greater the bandwidth of the Lin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2514600" y="4343400"/>
            <a:ext cx="3124080" cy="2332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8FD4-BC70-4407-BADC-5B0A8A7BDC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99ff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CI</a:t>
            </a:r>
            <a:r>
              <a:rPr b="1" lang="sr-Latn-CS" sz="2800" spc="-1" strike="noStrike">
                <a:solidFill>
                  <a:srgbClr val="6699ff"/>
                </a:solidFill>
                <a:latin typeface="Arial"/>
              </a:rPr>
              <a:t> Express Overview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Traffic Cla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tual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Quality of Serv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QoS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feature of PCI Express refers to the capability of routing packe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rom different applications through the fabr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ith differentiated prior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CI Express packets contain a Traffic Class (TC) number between 0 and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packets are routed through the fabric                   by utilizing virtual channel (VC) buff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ffic Class is individually mapped                        to a Virtual Cha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0" y="5738760"/>
            <a:ext cx="3581280" cy="17640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3505320" y="4800600"/>
            <a:ext cx="2057040" cy="1905120"/>
            <a:chOff x="3505320" y="4800600"/>
            <a:chExt cx="2057040" cy="1905120"/>
          </a:xfrm>
        </p:grpSpPr>
        <p:sp>
          <p:nvSpPr>
            <p:cNvPr id="366" name="Gear"/>
            <p:cNvSpPr/>
            <p:nvPr/>
          </p:nvSpPr>
          <p:spPr>
            <a:xfrm>
              <a:off x="4645800" y="4800600"/>
              <a:ext cx="916560" cy="873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05320" y="5160600"/>
              <a:ext cx="1096200" cy="1044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16320" y="5545800"/>
              <a:ext cx="1218240" cy="1159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5105520" y="5715000"/>
            <a:ext cx="4038480" cy="2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B9FF-A4FE-43D1-BB8B-C9A3987BF6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NewRoman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2057400"/>
            <a:ext cx="6019560" cy="654120"/>
            <a:chOff x="533520" y="2057400"/>
            <a:chExt cx="6019560" cy="65412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33520" y="205740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639720" y="2162160"/>
              <a:ext cx="5811480" cy="404640"/>
              <a:chOff x="639720" y="2162160"/>
              <a:chExt cx="5811480" cy="404640"/>
            </a:xfrm>
          </p:grpSpPr>
          <p:sp>
            <p:nvSpPr>
              <p:cNvPr id="48" name=""/>
              <p:cNvSpPr/>
              <p:nvPr/>
            </p:nvSpPr>
            <p:spPr>
              <a:xfrm>
                <a:off x="639720" y="216684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39720" y="216684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91200" y="217332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389600" y="216216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vs PCI Expres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231920" y="220644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838080" y="2895480"/>
            <a:ext cx="5943600" cy="654120"/>
            <a:chOff x="838080" y="2895480"/>
            <a:chExt cx="5943600" cy="65412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38080" y="2895480"/>
              <a:ext cx="594360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" name=""/>
            <p:cNvGrpSpPr/>
            <p:nvPr/>
          </p:nvGrpSpPr>
          <p:grpSpPr>
            <a:xfrm>
              <a:off x="942840" y="3000240"/>
              <a:ext cx="5738040" cy="404640"/>
              <a:chOff x="942840" y="3000240"/>
              <a:chExt cx="5738040" cy="404640"/>
            </a:xfrm>
          </p:grpSpPr>
          <p:sp>
            <p:nvSpPr>
              <p:cNvPr id="56" name=""/>
              <p:cNvSpPr/>
              <p:nvPr/>
            </p:nvSpPr>
            <p:spPr>
              <a:xfrm>
                <a:off x="942840" y="3004920"/>
                <a:ext cx="57380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42840" y="3004920"/>
                <a:ext cx="57380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993600" y="3011400"/>
                <a:ext cx="4190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683360" y="3000240"/>
                <a:ext cx="471924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Topolog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27480" y="3044520"/>
                <a:ext cx="4923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"/>
          <p:cNvGrpSpPr/>
          <p:nvPr/>
        </p:nvGrpSpPr>
        <p:grpSpPr>
          <a:xfrm>
            <a:off x="1143000" y="3733920"/>
            <a:ext cx="6095880" cy="653760"/>
            <a:chOff x="1143000" y="3733920"/>
            <a:chExt cx="6095880" cy="65376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1143000" y="3733920"/>
              <a:ext cx="6095880" cy="65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"/>
            <p:cNvGrpSpPr/>
            <p:nvPr/>
          </p:nvGrpSpPr>
          <p:grpSpPr>
            <a:xfrm>
              <a:off x="1250640" y="3838320"/>
              <a:ext cx="5885280" cy="403920"/>
              <a:chOff x="1250640" y="3838320"/>
              <a:chExt cx="5885280" cy="403920"/>
            </a:xfrm>
          </p:grpSpPr>
          <p:sp>
            <p:nvSpPr>
              <p:cNvPr id="64" name=""/>
              <p:cNvSpPr/>
              <p:nvPr/>
            </p:nvSpPr>
            <p:spPr>
              <a:xfrm>
                <a:off x="1250640" y="3842640"/>
                <a:ext cx="5885280" cy="39960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250640" y="3842640"/>
                <a:ext cx="5885280" cy="336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302480" y="3849120"/>
                <a:ext cx="429840" cy="30420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010240" y="3838320"/>
                <a:ext cx="4840200" cy="3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 Overvie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50400" y="3882240"/>
                <a:ext cx="5049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"/>
          <p:cNvGrpSpPr/>
          <p:nvPr/>
        </p:nvGrpSpPr>
        <p:grpSpPr>
          <a:xfrm>
            <a:off x="1523880" y="4572000"/>
            <a:ext cx="6248520" cy="654120"/>
            <a:chOff x="1523880" y="4572000"/>
            <a:chExt cx="6248520" cy="654120"/>
          </a:xfrm>
        </p:grpSpPr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1523880" y="4572000"/>
              <a:ext cx="624852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" name=""/>
            <p:cNvGrpSpPr/>
            <p:nvPr/>
          </p:nvGrpSpPr>
          <p:grpSpPr>
            <a:xfrm>
              <a:off x="1634040" y="4676760"/>
              <a:ext cx="6032520" cy="404640"/>
              <a:chOff x="1634040" y="4676760"/>
              <a:chExt cx="6032520" cy="404640"/>
            </a:xfrm>
          </p:grpSpPr>
          <p:sp>
            <p:nvSpPr>
              <p:cNvPr id="72" name=""/>
              <p:cNvSpPr/>
              <p:nvPr/>
            </p:nvSpPr>
            <p:spPr>
              <a:xfrm>
                <a:off x="1634040" y="4681440"/>
                <a:ext cx="603252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34040" y="4681440"/>
                <a:ext cx="603252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87320" y="4687920"/>
                <a:ext cx="4406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412720" y="4676760"/>
                <a:ext cx="49615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ransaction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248920" y="4721040"/>
                <a:ext cx="5175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1905120" y="5486400"/>
            <a:ext cx="6476760" cy="654120"/>
            <a:chOff x="1905120" y="5486400"/>
            <a:chExt cx="6476760" cy="654120"/>
          </a:xfrm>
        </p:grpSpPr>
        <p:pic>
          <p:nvPicPr>
            <p:cNvPr id="78" name="" descr=""/>
            <p:cNvPicPr/>
            <p:nvPr/>
          </p:nvPicPr>
          <p:blipFill>
            <a:blip r:embed="rId6"/>
            <a:stretch/>
          </p:blipFill>
          <p:spPr>
            <a:xfrm>
              <a:off x="1905120" y="5486400"/>
              <a:ext cx="64767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" name=""/>
            <p:cNvGrpSpPr/>
            <p:nvPr/>
          </p:nvGrpSpPr>
          <p:grpSpPr>
            <a:xfrm>
              <a:off x="2019240" y="5591160"/>
              <a:ext cx="6252840" cy="404640"/>
              <a:chOff x="2019240" y="5591160"/>
              <a:chExt cx="6252840" cy="404640"/>
            </a:xfrm>
          </p:grpSpPr>
          <p:sp>
            <p:nvSpPr>
              <p:cNvPr id="80" name=""/>
              <p:cNvSpPr/>
              <p:nvPr/>
            </p:nvSpPr>
            <p:spPr>
              <a:xfrm>
                <a:off x="2019240" y="5595840"/>
                <a:ext cx="62528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019240" y="5595840"/>
                <a:ext cx="62528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074320" y="5602320"/>
                <a:ext cx="45648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826360" y="5591160"/>
                <a:ext cx="514260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Device Layer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656440" y="5635440"/>
                <a:ext cx="5364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629400" y="1295280"/>
            <a:ext cx="2362320" cy="15130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304920" y="1295280"/>
            <a:ext cx="6019560" cy="654120"/>
            <a:chOff x="304920" y="1295280"/>
            <a:chExt cx="6019560" cy="654120"/>
          </a:xfrm>
        </p:grpSpPr>
        <p:pic>
          <p:nvPicPr>
            <p:cNvPr id="87" name="" descr=""/>
            <p:cNvPicPr/>
            <p:nvPr/>
          </p:nvPicPr>
          <p:blipFill>
            <a:blip r:embed="rId8"/>
            <a:stretch/>
          </p:blipFill>
          <p:spPr>
            <a:xfrm>
              <a:off x="304920" y="129528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"/>
            <p:cNvGrpSpPr/>
            <p:nvPr/>
          </p:nvGrpSpPr>
          <p:grpSpPr>
            <a:xfrm>
              <a:off x="411120" y="1400040"/>
              <a:ext cx="5811480" cy="404640"/>
              <a:chOff x="411120" y="1400040"/>
              <a:chExt cx="5811480" cy="404640"/>
            </a:xfrm>
          </p:grpSpPr>
          <p:sp>
            <p:nvSpPr>
              <p:cNvPr id="89" name=""/>
              <p:cNvSpPr/>
              <p:nvPr/>
            </p:nvSpPr>
            <p:spPr>
              <a:xfrm>
                <a:off x="411120" y="140472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11120" y="140472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62600" y="141120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161000" y="140004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Introduct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03320" y="144432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C62-C38E-4354-85CC-0BD283905C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99ff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6699ff"/>
                </a:solidFill>
                <a:latin typeface="Arial"/>
              </a:rPr>
              <a:t>CI</a:t>
            </a:r>
            <a:r>
              <a:rPr b="1" lang="sr-Latn-CS" sz="4000" spc="-1" strike="noStrike">
                <a:solidFill>
                  <a:srgbClr val="6699ff"/>
                </a:solidFill>
                <a:latin typeface="Arial"/>
              </a:rPr>
              <a:t> Express Overview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ow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5715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 packet transmitted by a device is received into a VC buffer in the receiver at the opposite end of the Lin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protocol by which the transmitter ensures that the receiving buffer has sufficient space available is referred to as flow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receiver periodically updates the transmitter with information regarding the amount of buffer space it has available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6095880" y="2209680"/>
            <a:ext cx="228312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A7F-E2F3-4BEC-820B-094997CED2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NewRoman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33520" y="2057400"/>
            <a:ext cx="6019560" cy="654120"/>
            <a:chOff x="533520" y="2057400"/>
            <a:chExt cx="6019560" cy="654120"/>
          </a:xfrm>
        </p:grpSpPr>
        <p:pic>
          <p:nvPicPr>
            <p:cNvPr id="376" name="" descr=""/>
            <p:cNvPicPr/>
            <p:nvPr/>
          </p:nvPicPr>
          <p:blipFill>
            <a:blip r:embed="rId2"/>
            <a:stretch/>
          </p:blipFill>
          <p:spPr>
            <a:xfrm>
              <a:off x="533520" y="205740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7" name=""/>
            <p:cNvGrpSpPr/>
            <p:nvPr/>
          </p:nvGrpSpPr>
          <p:grpSpPr>
            <a:xfrm>
              <a:off x="639720" y="2162160"/>
              <a:ext cx="5811480" cy="404640"/>
              <a:chOff x="639720" y="2162160"/>
              <a:chExt cx="5811480" cy="404640"/>
            </a:xfrm>
          </p:grpSpPr>
          <p:sp>
            <p:nvSpPr>
              <p:cNvPr id="378" name=""/>
              <p:cNvSpPr/>
              <p:nvPr/>
            </p:nvSpPr>
            <p:spPr>
              <a:xfrm>
                <a:off x="639720" y="216684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39720" y="216684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91200" y="217332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389600" y="216216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vs PCI Expres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231920" y="220644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"/>
          <p:cNvGrpSpPr/>
          <p:nvPr/>
        </p:nvGrpSpPr>
        <p:grpSpPr>
          <a:xfrm>
            <a:off x="838080" y="2895480"/>
            <a:ext cx="5943600" cy="654120"/>
            <a:chOff x="838080" y="2895480"/>
            <a:chExt cx="5943600" cy="654120"/>
          </a:xfrm>
        </p:grpSpPr>
        <p:pic>
          <p:nvPicPr>
            <p:cNvPr id="384" name="" descr=""/>
            <p:cNvPicPr/>
            <p:nvPr/>
          </p:nvPicPr>
          <p:blipFill>
            <a:blip r:embed="rId3"/>
            <a:stretch/>
          </p:blipFill>
          <p:spPr>
            <a:xfrm>
              <a:off x="838080" y="2895480"/>
              <a:ext cx="594360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5" name=""/>
            <p:cNvGrpSpPr/>
            <p:nvPr/>
          </p:nvGrpSpPr>
          <p:grpSpPr>
            <a:xfrm>
              <a:off x="942840" y="3000240"/>
              <a:ext cx="5738040" cy="404640"/>
              <a:chOff x="942840" y="3000240"/>
              <a:chExt cx="5738040" cy="404640"/>
            </a:xfrm>
          </p:grpSpPr>
          <p:sp>
            <p:nvSpPr>
              <p:cNvPr id="386" name=""/>
              <p:cNvSpPr/>
              <p:nvPr/>
            </p:nvSpPr>
            <p:spPr>
              <a:xfrm>
                <a:off x="942840" y="3004920"/>
                <a:ext cx="57380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942840" y="3004920"/>
                <a:ext cx="57380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993600" y="3011400"/>
                <a:ext cx="4190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683360" y="3000240"/>
                <a:ext cx="471924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 Topoplog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527480" y="3044520"/>
                <a:ext cx="4923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1" name=""/>
          <p:cNvGrpSpPr/>
          <p:nvPr/>
        </p:nvGrpSpPr>
        <p:grpSpPr>
          <a:xfrm>
            <a:off x="1143000" y="3733920"/>
            <a:ext cx="6095880" cy="653760"/>
            <a:chOff x="1143000" y="3733920"/>
            <a:chExt cx="6095880" cy="653760"/>
          </a:xfrm>
        </p:grpSpPr>
        <p:pic>
          <p:nvPicPr>
            <p:cNvPr id="392" name="" descr=""/>
            <p:cNvPicPr/>
            <p:nvPr/>
          </p:nvPicPr>
          <p:blipFill>
            <a:blip r:embed="rId4"/>
            <a:stretch/>
          </p:blipFill>
          <p:spPr>
            <a:xfrm>
              <a:off x="1143000" y="3733920"/>
              <a:ext cx="6095880" cy="65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3" name=""/>
            <p:cNvGrpSpPr/>
            <p:nvPr/>
          </p:nvGrpSpPr>
          <p:grpSpPr>
            <a:xfrm>
              <a:off x="1250640" y="3838320"/>
              <a:ext cx="5885280" cy="403920"/>
              <a:chOff x="1250640" y="3838320"/>
              <a:chExt cx="5885280" cy="403920"/>
            </a:xfrm>
          </p:grpSpPr>
          <p:sp>
            <p:nvSpPr>
              <p:cNvPr id="394" name=""/>
              <p:cNvSpPr/>
              <p:nvPr/>
            </p:nvSpPr>
            <p:spPr>
              <a:xfrm>
                <a:off x="1250640" y="3842640"/>
                <a:ext cx="5885280" cy="39960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250640" y="3842640"/>
                <a:ext cx="5885280" cy="336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302480" y="3849120"/>
                <a:ext cx="429840" cy="30420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010240" y="3838320"/>
                <a:ext cx="4840200" cy="3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Overvie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50400" y="3882240"/>
                <a:ext cx="5049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9" name=""/>
          <p:cNvGrpSpPr/>
          <p:nvPr/>
        </p:nvGrpSpPr>
        <p:grpSpPr>
          <a:xfrm>
            <a:off x="457200" y="1828800"/>
            <a:ext cx="7848360" cy="2284920"/>
            <a:chOff x="457200" y="1828800"/>
            <a:chExt cx="7848360" cy="2284920"/>
          </a:xfrm>
        </p:grpSpPr>
        <p:pic>
          <p:nvPicPr>
            <p:cNvPr id="400" name="" descr=""/>
            <p:cNvPicPr/>
            <p:nvPr/>
          </p:nvPicPr>
          <p:blipFill>
            <a:blip r:embed="rId5"/>
            <a:stretch/>
          </p:blipFill>
          <p:spPr>
            <a:xfrm>
              <a:off x="457200" y="1828800"/>
              <a:ext cx="7848360" cy="228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1" name=""/>
            <p:cNvGrpSpPr/>
            <p:nvPr/>
          </p:nvGrpSpPr>
          <p:grpSpPr>
            <a:xfrm>
              <a:off x="595800" y="2194560"/>
              <a:ext cx="7576920" cy="1412280"/>
              <a:chOff x="595800" y="2194560"/>
              <a:chExt cx="7576920" cy="1412280"/>
            </a:xfrm>
          </p:grpSpPr>
          <p:sp>
            <p:nvSpPr>
              <p:cNvPr id="402" name=""/>
              <p:cNvSpPr/>
              <p:nvPr/>
            </p:nvSpPr>
            <p:spPr>
              <a:xfrm>
                <a:off x="595800" y="2210760"/>
                <a:ext cx="7576920" cy="139608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95800" y="2210760"/>
                <a:ext cx="7576920" cy="1174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62760" y="2233440"/>
                <a:ext cx="553320" cy="106308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73920" y="2194560"/>
                <a:ext cx="6231960" cy="12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ransaction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368000" y="2725920"/>
                <a:ext cx="6500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1905120" y="5486400"/>
            <a:ext cx="6476760" cy="654120"/>
            <a:chOff x="1905120" y="5486400"/>
            <a:chExt cx="6476760" cy="654120"/>
          </a:xfrm>
        </p:grpSpPr>
        <p:pic>
          <p:nvPicPr>
            <p:cNvPr id="408" name="" descr=""/>
            <p:cNvPicPr/>
            <p:nvPr/>
          </p:nvPicPr>
          <p:blipFill>
            <a:blip r:embed="rId6"/>
            <a:stretch/>
          </p:blipFill>
          <p:spPr>
            <a:xfrm>
              <a:off x="1905120" y="5486400"/>
              <a:ext cx="64767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9" name=""/>
            <p:cNvGrpSpPr/>
            <p:nvPr/>
          </p:nvGrpSpPr>
          <p:grpSpPr>
            <a:xfrm>
              <a:off x="2019240" y="5591160"/>
              <a:ext cx="6252840" cy="404640"/>
              <a:chOff x="2019240" y="5591160"/>
              <a:chExt cx="6252840" cy="404640"/>
            </a:xfrm>
          </p:grpSpPr>
          <p:sp>
            <p:nvSpPr>
              <p:cNvPr id="410" name=""/>
              <p:cNvSpPr/>
              <p:nvPr/>
            </p:nvSpPr>
            <p:spPr>
              <a:xfrm>
                <a:off x="2019240" y="5595840"/>
                <a:ext cx="62528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019240" y="5595840"/>
                <a:ext cx="62528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074320" y="5602320"/>
                <a:ext cx="45648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826360" y="5591160"/>
                <a:ext cx="514260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Device Layer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656440" y="5635440"/>
                <a:ext cx="5364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"/>
          <p:cNvGrpSpPr/>
          <p:nvPr/>
        </p:nvGrpSpPr>
        <p:grpSpPr>
          <a:xfrm>
            <a:off x="304920" y="1295280"/>
            <a:ext cx="6019560" cy="654120"/>
            <a:chOff x="304920" y="1295280"/>
            <a:chExt cx="6019560" cy="654120"/>
          </a:xfrm>
        </p:grpSpPr>
        <p:pic>
          <p:nvPicPr>
            <p:cNvPr id="416" name="" descr=""/>
            <p:cNvPicPr/>
            <p:nvPr/>
          </p:nvPicPr>
          <p:blipFill>
            <a:blip r:embed="rId7"/>
            <a:stretch/>
          </p:blipFill>
          <p:spPr>
            <a:xfrm>
              <a:off x="304920" y="129528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7" name=""/>
            <p:cNvGrpSpPr/>
            <p:nvPr/>
          </p:nvGrpSpPr>
          <p:grpSpPr>
            <a:xfrm>
              <a:off x="411120" y="1400040"/>
              <a:ext cx="5811480" cy="404640"/>
              <a:chOff x="411120" y="1400040"/>
              <a:chExt cx="5811480" cy="404640"/>
            </a:xfrm>
          </p:grpSpPr>
          <p:sp>
            <p:nvSpPr>
              <p:cNvPr id="418" name=""/>
              <p:cNvSpPr/>
              <p:nvPr/>
            </p:nvSpPr>
            <p:spPr>
              <a:xfrm>
                <a:off x="411120" y="140472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11120" y="140472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62600" y="141120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161000" y="140004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Introduct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003320" y="144432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3" name="" descr=""/>
          <p:cNvPicPr/>
          <p:nvPr/>
        </p:nvPicPr>
        <p:blipFill>
          <a:blip r:embed="rId8"/>
          <a:stretch/>
        </p:blipFill>
        <p:spPr>
          <a:xfrm>
            <a:off x="3276720" y="4191120"/>
            <a:ext cx="2361960" cy="224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F721-FEDE-4385-846A-DB87467DE4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3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CI Express Trans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and reception of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Layer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catego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066680" y="3200400"/>
            <a:ext cx="1676520" cy="533520"/>
          </a:xfrm>
          <a:prstGeom prst="ellipse">
            <a:avLst/>
          </a:prstGeom>
          <a:solidFill>
            <a:srgbClr val="bbe0e3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209680" y="3962520"/>
            <a:ext cx="1676520" cy="533160"/>
          </a:xfrm>
          <a:prstGeom prst="ellipse">
            <a:avLst/>
          </a:prstGeom>
          <a:solidFill>
            <a:srgbClr val="bbe0e3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429000" y="4800600"/>
            <a:ext cx="1676520" cy="533520"/>
          </a:xfrm>
          <a:prstGeom prst="ellipse">
            <a:avLst/>
          </a:prstGeom>
          <a:solidFill>
            <a:srgbClr val="bbe0e3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952880" y="5486400"/>
            <a:ext cx="1676520" cy="533520"/>
          </a:xfrm>
          <a:prstGeom prst="ellipse">
            <a:avLst/>
          </a:prstGeom>
          <a:solidFill>
            <a:srgbClr val="bbe0e3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3664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6095880" y="2895480"/>
            <a:ext cx="2241720" cy="228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CFF7-6F3C-406F-B0F7-55888CEA48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LP Packet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 po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600200"/>
            <a:ext cx="3200400" cy="2286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mory read (M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O read (I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O write (IOW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figuration read (Cfg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figuration write (CfgW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3520" y="4724280"/>
            <a:ext cx="3200400" cy="990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mory write (MW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ssage (Msg, Msg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191120" y="2971800"/>
            <a:ext cx="1981080" cy="304920"/>
          </a:xfrm>
          <a:prstGeom prst="rightArrow">
            <a:avLst>
              <a:gd name="adj1" fmla="val 50000"/>
              <a:gd name="adj2" fmla="val 1624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191120" y="5181480"/>
            <a:ext cx="1981080" cy="304920"/>
          </a:xfrm>
          <a:prstGeom prst="rightArrow">
            <a:avLst>
              <a:gd name="adj1" fmla="val 50000"/>
              <a:gd name="adj2" fmla="val 1624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B38-2630-4DBB-B92A-5D9F9ADA28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Non Posted Trans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read transa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ata i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mpletion T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4629240" cy="35053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52280" y="1447920"/>
            <a:ext cx="1828800" cy="990360"/>
          </a:xfrm>
          <a:prstGeom prst="wedgeRoundRectCallout">
            <a:avLst>
              <a:gd name="adj1" fmla="val 38800"/>
              <a:gd name="adj2" fmla="val 126921"/>
              <a:gd name="adj3" fmla="val 16667"/>
            </a:avLst>
          </a:prstGeom>
          <a:solidFill>
            <a:srgbClr val="fee5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oot complex or endpoint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181480" y="1295280"/>
            <a:ext cx="2514600" cy="990720"/>
          </a:xfrm>
          <a:prstGeom prst="wedgeRoundRectCallout">
            <a:avLst>
              <a:gd name="adj1" fmla="val -78597"/>
              <a:gd name="adj2" fmla="val 143750"/>
              <a:gd name="adj3" fmla="val 16667"/>
            </a:avLst>
          </a:prstGeom>
          <a:solidFill>
            <a:srgbClr val="fee5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oot complex, switches, bridges or endpoint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ECC4-432E-404C-B3A1-A4C87C7AC1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rite 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data is in the reception T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Non Posted Trans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3581280" y="2057400"/>
            <a:ext cx="4648320" cy="300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BEC9-9C6E-4549-8C4B-BB729CE00ED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osted Memory Write Trans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data i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request T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- error handl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 NOTIFIC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648320" cy="29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CD9-79DF-4366-86C2-0105A4FCCD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osted Message Trans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outing is based on message’s address, device ID or routed implici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2362320" y="2895480"/>
            <a:ext cx="4676760" cy="32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3AA-7DAC-42FF-8363-FFDA0BDEE60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NewRoman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533520" y="2057400"/>
            <a:ext cx="6019560" cy="654120"/>
            <a:chOff x="533520" y="2057400"/>
            <a:chExt cx="6019560" cy="654120"/>
          </a:xfrm>
        </p:grpSpPr>
        <p:pic>
          <p:nvPicPr>
            <p:cNvPr id="455" name="" descr=""/>
            <p:cNvPicPr/>
            <p:nvPr/>
          </p:nvPicPr>
          <p:blipFill>
            <a:blip r:embed="rId2"/>
            <a:stretch/>
          </p:blipFill>
          <p:spPr>
            <a:xfrm>
              <a:off x="533520" y="205740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6" name=""/>
            <p:cNvGrpSpPr/>
            <p:nvPr/>
          </p:nvGrpSpPr>
          <p:grpSpPr>
            <a:xfrm>
              <a:off x="639720" y="2162160"/>
              <a:ext cx="5811480" cy="404640"/>
              <a:chOff x="639720" y="2162160"/>
              <a:chExt cx="5811480" cy="404640"/>
            </a:xfrm>
          </p:grpSpPr>
          <p:sp>
            <p:nvSpPr>
              <p:cNvPr id="457" name=""/>
              <p:cNvSpPr/>
              <p:nvPr/>
            </p:nvSpPr>
            <p:spPr>
              <a:xfrm>
                <a:off x="639720" y="216684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39720" y="216684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1200" y="217332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89600" y="216216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vs PCI Expres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231920" y="220644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2" name=""/>
          <p:cNvGrpSpPr/>
          <p:nvPr/>
        </p:nvGrpSpPr>
        <p:grpSpPr>
          <a:xfrm>
            <a:off x="838080" y="2895480"/>
            <a:ext cx="5943600" cy="654120"/>
            <a:chOff x="838080" y="2895480"/>
            <a:chExt cx="5943600" cy="654120"/>
          </a:xfrm>
        </p:grpSpPr>
        <p:pic>
          <p:nvPicPr>
            <p:cNvPr id="463" name="" descr=""/>
            <p:cNvPicPr/>
            <p:nvPr/>
          </p:nvPicPr>
          <p:blipFill>
            <a:blip r:embed="rId3"/>
            <a:stretch/>
          </p:blipFill>
          <p:spPr>
            <a:xfrm>
              <a:off x="838080" y="2895480"/>
              <a:ext cx="594360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4" name=""/>
            <p:cNvGrpSpPr/>
            <p:nvPr/>
          </p:nvGrpSpPr>
          <p:grpSpPr>
            <a:xfrm>
              <a:off x="942840" y="3000240"/>
              <a:ext cx="5738040" cy="404640"/>
              <a:chOff x="942840" y="3000240"/>
              <a:chExt cx="5738040" cy="404640"/>
            </a:xfrm>
          </p:grpSpPr>
          <p:sp>
            <p:nvSpPr>
              <p:cNvPr id="465" name=""/>
              <p:cNvSpPr/>
              <p:nvPr/>
            </p:nvSpPr>
            <p:spPr>
              <a:xfrm>
                <a:off x="942840" y="3004920"/>
                <a:ext cx="57380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942840" y="3004920"/>
                <a:ext cx="57380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993600" y="3011400"/>
                <a:ext cx="4190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683360" y="3000240"/>
                <a:ext cx="471924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opoplog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527480" y="3044520"/>
                <a:ext cx="4923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1143000" y="3733920"/>
            <a:ext cx="6095880" cy="653760"/>
            <a:chOff x="1143000" y="3733920"/>
            <a:chExt cx="6095880" cy="653760"/>
          </a:xfrm>
        </p:grpSpPr>
        <p:pic>
          <p:nvPicPr>
            <p:cNvPr id="471" name="" descr=""/>
            <p:cNvPicPr/>
            <p:nvPr/>
          </p:nvPicPr>
          <p:blipFill>
            <a:blip r:embed="rId4"/>
            <a:stretch/>
          </p:blipFill>
          <p:spPr>
            <a:xfrm>
              <a:off x="1143000" y="3733920"/>
              <a:ext cx="6095880" cy="65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2" name=""/>
            <p:cNvGrpSpPr/>
            <p:nvPr/>
          </p:nvGrpSpPr>
          <p:grpSpPr>
            <a:xfrm>
              <a:off x="1250640" y="3838320"/>
              <a:ext cx="5885280" cy="403920"/>
              <a:chOff x="1250640" y="3838320"/>
              <a:chExt cx="5885280" cy="403920"/>
            </a:xfrm>
          </p:grpSpPr>
          <p:sp>
            <p:nvSpPr>
              <p:cNvPr id="473" name=""/>
              <p:cNvSpPr/>
              <p:nvPr/>
            </p:nvSpPr>
            <p:spPr>
              <a:xfrm>
                <a:off x="1250640" y="3842640"/>
                <a:ext cx="5885280" cy="39960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250640" y="3842640"/>
                <a:ext cx="5885280" cy="336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02480" y="3849120"/>
                <a:ext cx="429840" cy="30420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010240" y="3838320"/>
                <a:ext cx="4840200" cy="3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Overvie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850400" y="3882240"/>
                <a:ext cx="5049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1523880" y="4572000"/>
            <a:ext cx="6248520" cy="654120"/>
            <a:chOff x="1523880" y="4572000"/>
            <a:chExt cx="6248520" cy="654120"/>
          </a:xfrm>
        </p:grpSpPr>
        <p:pic>
          <p:nvPicPr>
            <p:cNvPr id="479" name="" descr=""/>
            <p:cNvPicPr/>
            <p:nvPr/>
          </p:nvPicPr>
          <p:blipFill>
            <a:blip r:embed="rId5"/>
            <a:stretch/>
          </p:blipFill>
          <p:spPr>
            <a:xfrm>
              <a:off x="1523880" y="4572000"/>
              <a:ext cx="624852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0" name=""/>
            <p:cNvGrpSpPr/>
            <p:nvPr/>
          </p:nvGrpSpPr>
          <p:grpSpPr>
            <a:xfrm>
              <a:off x="1634040" y="4676760"/>
              <a:ext cx="6032520" cy="404640"/>
              <a:chOff x="1634040" y="4676760"/>
              <a:chExt cx="6032520" cy="404640"/>
            </a:xfrm>
          </p:grpSpPr>
          <p:sp>
            <p:nvSpPr>
              <p:cNvPr id="481" name=""/>
              <p:cNvSpPr/>
              <p:nvPr/>
            </p:nvSpPr>
            <p:spPr>
              <a:xfrm>
                <a:off x="1634040" y="4681440"/>
                <a:ext cx="603252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634040" y="4681440"/>
                <a:ext cx="603252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687320" y="4687920"/>
                <a:ext cx="4406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412720" y="4676760"/>
                <a:ext cx="49615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ransaction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248920" y="4721040"/>
                <a:ext cx="5175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6" name=""/>
          <p:cNvGrpSpPr/>
          <p:nvPr/>
        </p:nvGrpSpPr>
        <p:grpSpPr>
          <a:xfrm>
            <a:off x="380880" y="3886200"/>
            <a:ext cx="8381880" cy="2284920"/>
            <a:chOff x="380880" y="3886200"/>
            <a:chExt cx="8381880" cy="2284920"/>
          </a:xfrm>
        </p:grpSpPr>
        <p:pic>
          <p:nvPicPr>
            <p:cNvPr id="487" name="" descr=""/>
            <p:cNvPicPr/>
            <p:nvPr/>
          </p:nvPicPr>
          <p:blipFill>
            <a:blip r:embed="rId6"/>
            <a:stretch/>
          </p:blipFill>
          <p:spPr>
            <a:xfrm>
              <a:off x="380880" y="3886200"/>
              <a:ext cx="8381880" cy="228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8" name=""/>
            <p:cNvGrpSpPr/>
            <p:nvPr/>
          </p:nvGrpSpPr>
          <p:grpSpPr>
            <a:xfrm>
              <a:off x="528840" y="4251960"/>
              <a:ext cx="8092080" cy="1412280"/>
              <a:chOff x="528840" y="4251960"/>
              <a:chExt cx="8092080" cy="1412280"/>
            </a:xfrm>
          </p:grpSpPr>
          <p:sp>
            <p:nvSpPr>
              <p:cNvPr id="489" name=""/>
              <p:cNvSpPr/>
              <p:nvPr/>
            </p:nvSpPr>
            <p:spPr>
              <a:xfrm>
                <a:off x="528840" y="4268160"/>
                <a:ext cx="8092080" cy="139608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28840" y="4268160"/>
                <a:ext cx="8092080" cy="1174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00480" y="4290840"/>
                <a:ext cx="591120" cy="106308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573200" y="4251960"/>
                <a:ext cx="6655680" cy="12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Device Layer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53600" y="4783320"/>
                <a:ext cx="6942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4" name=""/>
          <p:cNvGrpSpPr/>
          <p:nvPr/>
        </p:nvGrpSpPr>
        <p:grpSpPr>
          <a:xfrm>
            <a:off x="304920" y="1295280"/>
            <a:ext cx="6019560" cy="654120"/>
            <a:chOff x="304920" y="1295280"/>
            <a:chExt cx="6019560" cy="654120"/>
          </a:xfrm>
        </p:grpSpPr>
        <p:pic>
          <p:nvPicPr>
            <p:cNvPr id="495" name="" descr=""/>
            <p:cNvPicPr/>
            <p:nvPr/>
          </p:nvPicPr>
          <p:blipFill>
            <a:blip r:embed="rId7"/>
            <a:stretch/>
          </p:blipFill>
          <p:spPr>
            <a:xfrm>
              <a:off x="304920" y="129528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6" name=""/>
            <p:cNvGrpSpPr/>
            <p:nvPr/>
          </p:nvGrpSpPr>
          <p:grpSpPr>
            <a:xfrm>
              <a:off x="411120" y="1400040"/>
              <a:ext cx="5811480" cy="404640"/>
              <a:chOff x="411120" y="1400040"/>
              <a:chExt cx="5811480" cy="404640"/>
            </a:xfrm>
          </p:grpSpPr>
          <p:sp>
            <p:nvSpPr>
              <p:cNvPr id="497" name=""/>
              <p:cNvSpPr/>
              <p:nvPr/>
            </p:nvSpPr>
            <p:spPr>
              <a:xfrm>
                <a:off x="411120" y="140472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11120" y="140472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62600" y="141120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161000" y="140004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Introduct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003320" y="144432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02" name="" descr=""/>
          <p:cNvPicPr/>
          <p:nvPr/>
        </p:nvPicPr>
        <p:blipFill>
          <a:blip r:embed="rId8"/>
          <a:stretch/>
        </p:blipFill>
        <p:spPr>
          <a:xfrm>
            <a:off x="2819520" y="1523880"/>
            <a:ext cx="3200400" cy="200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F0AE-CBB9-40F8-A1F9-BEBF796CF4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7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CI Express Device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5334120" cy="471168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6095880" y="1676520"/>
            <a:ext cx="2362320" cy="457200"/>
          </a:xfrm>
          <a:prstGeom prst="wedgeRoundRectCallout">
            <a:avLst>
              <a:gd name="adj1" fmla="val -126745"/>
              <a:gd name="adj2" fmla="val 272222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ransmit p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019920" y="4419720"/>
            <a:ext cx="2743200" cy="609480"/>
          </a:xfrm>
          <a:prstGeom prst="wedgeEllipseCallout">
            <a:avLst>
              <a:gd name="adj1" fmla="val -183796"/>
              <a:gd name="adj2" fmla="val -265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ceive p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CF97-49DE-4CAB-B6B9-B364ADE2745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NewRoman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2057400"/>
            <a:ext cx="6019560" cy="654120"/>
            <a:chOff x="533520" y="2057400"/>
            <a:chExt cx="6019560" cy="65412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533520" y="205740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" name=""/>
            <p:cNvGrpSpPr/>
            <p:nvPr/>
          </p:nvGrpSpPr>
          <p:grpSpPr>
            <a:xfrm>
              <a:off x="639720" y="2162160"/>
              <a:ext cx="5811480" cy="404640"/>
              <a:chOff x="639720" y="2162160"/>
              <a:chExt cx="5811480" cy="404640"/>
            </a:xfrm>
          </p:grpSpPr>
          <p:sp>
            <p:nvSpPr>
              <p:cNvPr id="98" name=""/>
              <p:cNvSpPr/>
              <p:nvPr/>
            </p:nvSpPr>
            <p:spPr>
              <a:xfrm>
                <a:off x="639720" y="216684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39720" y="216684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91200" y="217332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89600" y="216216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vs PCI Expres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231920" y="220644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838080" y="2895480"/>
            <a:ext cx="5943600" cy="654120"/>
            <a:chOff x="838080" y="2895480"/>
            <a:chExt cx="5943600" cy="654120"/>
          </a:xfrm>
        </p:grpSpPr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838080" y="2895480"/>
              <a:ext cx="594360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" name=""/>
            <p:cNvGrpSpPr/>
            <p:nvPr/>
          </p:nvGrpSpPr>
          <p:grpSpPr>
            <a:xfrm>
              <a:off x="942840" y="3000240"/>
              <a:ext cx="5738040" cy="404640"/>
              <a:chOff x="942840" y="3000240"/>
              <a:chExt cx="5738040" cy="404640"/>
            </a:xfrm>
          </p:grpSpPr>
          <p:sp>
            <p:nvSpPr>
              <p:cNvPr id="106" name=""/>
              <p:cNvSpPr/>
              <p:nvPr/>
            </p:nvSpPr>
            <p:spPr>
              <a:xfrm>
                <a:off x="942840" y="3004920"/>
                <a:ext cx="57380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42840" y="3004920"/>
                <a:ext cx="57380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93600" y="3011400"/>
                <a:ext cx="4190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683360" y="3000240"/>
                <a:ext cx="471924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Topolog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27480" y="3044520"/>
                <a:ext cx="4923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1143000" y="3733920"/>
            <a:ext cx="6095880" cy="653760"/>
            <a:chOff x="1143000" y="3733920"/>
            <a:chExt cx="6095880" cy="653760"/>
          </a:xfrm>
        </p:grpSpPr>
        <p:pic>
          <p:nvPicPr>
            <p:cNvPr id="112" name="" descr=""/>
            <p:cNvPicPr/>
            <p:nvPr/>
          </p:nvPicPr>
          <p:blipFill>
            <a:blip r:embed="rId4"/>
            <a:stretch/>
          </p:blipFill>
          <p:spPr>
            <a:xfrm>
              <a:off x="1143000" y="3733920"/>
              <a:ext cx="6095880" cy="65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" name=""/>
            <p:cNvGrpSpPr/>
            <p:nvPr/>
          </p:nvGrpSpPr>
          <p:grpSpPr>
            <a:xfrm>
              <a:off x="1250640" y="3838320"/>
              <a:ext cx="5885280" cy="403920"/>
              <a:chOff x="1250640" y="3838320"/>
              <a:chExt cx="5885280" cy="403920"/>
            </a:xfrm>
          </p:grpSpPr>
          <p:sp>
            <p:nvSpPr>
              <p:cNvPr id="114" name=""/>
              <p:cNvSpPr/>
              <p:nvPr/>
            </p:nvSpPr>
            <p:spPr>
              <a:xfrm>
                <a:off x="1250640" y="3842640"/>
                <a:ext cx="5885280" cy="39960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250640" y="3842640"/>
                <a:ext cx="5885280" cy="336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302480" y="3849120"/>
                <a:ext cx="429840" cy="30420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010240" y="3838320"/>
                <a:ext cx="4840200" cy="3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Overvie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50400" y="3882240"/>
                <a:ext cx="5049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1523880" y="4572000"/>
            <a:ext cx="6248520" cy="654120"/>
            <a:chOff x="1523880" y="4572000"/>
            <a:chExt cx="6248520" cy="654120"/>
          </a:xfrm>
        </p:grpSpPr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1523880" y="4572000"/>
              <a:ext cx="624852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" name=""/>
            <p:cNvGrpSpPr/>
            <p:nvPr/>
          </p:nvGrpSpPr>
          <p:grpSpPr>
            <a:xfrm>
              <a:off x="1634040" y="4676760"/>
              <a:ext cx="6032520" cy="404640"/>
              <a:chOff x="1634040" y="4676760"/>
              <a:chExt cx="6032520" cy="404640"/>
            </a:xfrm>
          </p:grpSpPr>
          <p:sp>
            <p:nvSpPr>
              <p:cNvPr id="122" name=""/>
              <p:cNvSpPr/>
              <p:nvPr/>
            </p:nvSpPr>
            <p:spPr>
              <a:xfrm>
                <a:off x="1634040" y="4681440"/>
                <a:ext cx="603252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634040" y="4681440"/>
                <a:ext cx="603252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87320" y="4687920"/>
                <a:ext cx="4406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412720" y="4676760"/>
                <a:ext cx="49615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ransaction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248920" y="4721040"/>
                <a:ext cx="5175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1905120" y="5486400"/>
            <a:ext cx="6476760" cy="654120"/>
            <a:chOff x="1905120" y="5486400"/>
            <a:chExt cx="6476760" cy="654120"/>
          </a:xfrm>
        </p:grpSpPr>
        <p:pic>
          <p:nvPicPr>
            <p:cNvPr id="128" name="" descr=""/>
            <p:cNvPicPr/>
            <p:nvPr/>
          </p:nvPicPr>
          <p:blipFill>
            <a:blip r:embed="rId6"/>
            <a:stretch/>
          </p:blipFill>
          <p:spPr>
            <a:xfrm>
              <a:off x="1905120" y="5486400"/>
              <a:ext cx="64767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9" name=""/>
            <p:cNvGrpSpPr/>
            <p:nvPr/>
          </p:nvGrpSpPr>
          <p:grpSpPr>
            <a:xfrm>
              <a:off x="2019240" y="5591160"/>
              <a:ext cx="6252840" cy="404640"/>
              <a:chOff x="2019240" y="5591160"/>
              <a:chExt cx="6252840" cy="404640"/>
            </a:xfrm>
          </p:grpSpPr>
          <p:sp>
            <p:nvSpPr>
              <p:cNvPr id="130" name=""/>
              <p:cNvSpPr/>
              <p:nvPr/>
            </p:nvSpPr>
            <p:spPr>
              <a:xfrm>
                <a:off x="2019240" y="5595840"/>
                <a:ext cx="62528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19240" y="5595840"/>
                <a:ext cx="62528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74320" y="5602320"/>
                <a:ext cx="45648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826360" y="5591160"/>
                <a:ext cx="514260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Device Layer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56440" y="5635440"/>
                <a:ext cx="5364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380880" y="1752480"/>
            <a:ext cx="8153280" cy="2361240"/>
            <a:chOff x="380880" y="1752480"/>
            <a:chExt cx="8153280" cy="2361240"/>
          </a:xfrm>
        </p:grpSpPr>
        <p:pic>
          <p:nvPicPr>
            <p:cNvPr id="136" name="" descr=""/>
            <p:cNvPicPr/>
            <p:nvPr/>
          </p:nvPicPr>
          <p:blipFill>
            <a:blip r:embed="rId7"/>
            <a:stretch/>
          </p:blipFill>
          <p:spPr>
            <a:xfrm>
              <a:off x="380880" y="1752480"/>
              <a:ext cx="8153280" cy="236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524880" y="2130480"/>
              <a:ext cx="7871400" cy="1459080"/>
              <a:chOff x="524880" y="2130480"/>
              <a:chExt cx="7871400" cy="1459080"/>
            </a:xfrm>
          </p:grpSpPr>
          <p:sp>
            <p:nvSpPr>
              <p:cNvPr id="138" name=""/>
              <p:cNvSpPr/>
              <p:nvPr/>
            </p:nvSpPr>
            <p:spPr>
              <a:xfrm>
                <a:off x="524880" y="2147040"/>
                <a:ext cx="7871400" cy="144252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24880" y="2147040"/>
                <a:ext cx="7871400" cy="121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94360" y="2170440"/>
                <a:ext cx="574920" cy="10983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540800" y="2130480"/>
                <a:ext cx="6473880" cy="12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Introduct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26960" y="2684880"/>
                <a:ext cx="675360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3124080" y="4038480"/>
            <a:ext cx="2667240" cy="22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0E36-C2A6-4548-96AE-B29B6A0246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Layers Key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3048120" y="1066680"/>
            <a:ext cx="5486400" cy="509904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609480" y="2743200"/>
            <a:ext cx="2438640" cy="990720"/>
          </a:xfrm>
          <a:prstGeom prst="wedgeRoundRectCallout">
            <a:avLst>
              <a:gd name="adj1" fmla="val 102342"/>
              <a:gd name="adj2" fmla="val -1661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oot complex core logic or endpoint core logic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4114800"/>
            <a:ext cx="2209680" cy="990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thernet controll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USB contro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8BAE-7A8D-4A49-844F-B550C726D9A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ransaction Layer Packet (TL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6273720" cy="41022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457200" y="2514600"/>
            <a:ext cx="1447920" cy="609480"/>
          </a:xfrm>
          <a:prstGeom prst="wedgeRoundRectCallout">
            <a:avLst>
              <a:gd name="adj1" fmla="val 98574"/>
              <a:gd name="adj2" fmla="val 1348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rig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238880" y="2590920"/>
            <a:ext cx="1447920" cy="609480"/>
          </a:xfrm>
          <a:prstGeom prst="wedgeRoundRectCallout">
            <a:avLst>
              <a:gd name="adj1" fmla="val -93310"/>
              <a:gd name="adj2" fmla="val 129166"/>
              <a:gd name="adj3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term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3181-E05D-4ABF-AAE6-9B00DA187BC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ransaction L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transmit 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receive por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1295280" y="1981080"/>
            <a:ext cx="2314800" cy="136224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4800600" y="4800600"/>
            <a:ext cx="2324160" cy="136224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5715000" y="1219320"/>
            <a:ext cx="3276720" cy="1523880"/>
          </a:xfrm>
          <a:prstGeom prst="wedgeRoundRectCallout">
            <a:avLst>
              <a:gd name="adj1" fmla="val -174032"/>
              <a:gd name="adj2" fmla="val 7323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3 DW or 4 D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tains address, TLP type, transfer size, requester ID/completer ID, tag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791320" y="3200400"/>
            <a:ext cx="3124080" cy="380880"/>
          </a:xfrm>
          <a:prstGeom prst="wedgeRoundRectCallout">
            <a:avLst>
              <a:gd name="adj1" fmla="val -122509"/>
              <a:gd name="adj2" fmla="val -6291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enerated by this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0397-C87E-412A-8FF1-F983BCF9F9C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Data Link L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e transmit 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e receive 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1219320" y="2286000"/>
            <a:ext cx="4309920" cy="3808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4267080" y="5181480"/>
            <a:ext cx="4310280" cy="38124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6095880" y="3200400"/>
            <a:ext cx="2133720" cy="1295280"/>
          </a:xfrm>
          <a:prstGeom prst="cloudCallout">
            <a:avLst>
              <a:gd name="adj1" fmla="val -89657"/>
              <a:gd name="adj2" fmla="val -96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generated and ap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219320" y="3429000"/>
            <a:ext cx="2666880" cy="5335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reserves a copy of T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343400" y="4952880"/>
            <a:ext cx="762120" cy="83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4419360" y="4952880"/>
            <a:ext cx="609480" cy="83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24680" y="4952880"/>
            <a:ext cx="762120" cy="83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8000640" y="4952880"/>
            <a:ext cx="609480" cy="83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849-CFCA-4AA5-8078-D998F5A788B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hysical L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or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and Electrical Physical Lay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1828800" y="1752480"/>
            <a:ext cx="5900760" cy="15717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990720" y="3200400"/>
            <a:ext cx="3657600" cy="1219320"/>
          </a:xfrm>
          <a:prstGeom prst="cloudCallout">
            <a:avLst>
              <a:gd name="adj1" fmla="val -36935"/>
              <a:gd name="adj2" fmla="val 1322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rocessing packets before transmission on the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3200400"/>
            <a:ext cx="3657600" cy="1219320"/>
          </a:xfrm>
          <a:prstGeom prst="cloudCallout">
            <a:avLst>
              <a:gd name="adj1" fmla="val -94402"/>
              <a:gd name="adj2" fmla="val 131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nalog interface of the PL that connects to the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CC99-59FF-4D7D-B424-BF69A92104B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ransaction Layer Packet (TL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ugh the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N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4038480" cy="28638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4191120" cy="294804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4191120" y="2895480"/>
            <a:ext cx="1752480" cy="381240"/>
          </a:xfrm>
          <a:custGeom>
            <a:avLst/>
            <a:gdLst>
              <a:gd name="textAreaLeft" fmla="*/ 332280 w 1752480"/>
              <a:gd name="textAreaRight" fmla="*/ 1140480 w 17524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98" hR="21600" stAng="10800000" swAng="-5400000"/>
                <a:lnTo>
                  <a:pt x="9960" y="21600"/>
                </a:lnTo>
                <a:arcTo wR="8198" hR="21600" stAng="5400000" swAng="-3611202"/>
                <a:lnTo>
                  <a:pt x="21413" y="4590"/>
                </a:lnTo>
                <a:lnTo>
                  <a:pt x="17276" y="0"/>
                </a:lnTo>
                <a:lnTo>
                  <a:pt x="12765" y="4590"/>
                </a:lnTo>
                <a:lnTo>
                  <a:pt x="16208" y="4590"/>
                </a:lnTo>
                <a:arcTo wR="8198" hR="21600" stAng="1788798" swAng="3470248"/>
                <a:lnTo>
                  <a:pt x="9079" y="21475"/>
                </a:lnTo>
                <a:arcTo wR="8198" hR="21600" stAng="5540953" swAng="5259047"/>
                <a:close/>
              </a:path>
              <a:path fill="darkenLess" w="21600" h="21600">
                <a:moveTo>
                  <a:pt x="0" y="0"/>
                </a:moveTo>
                <a:arcTo wR="8198" hR="21600" stAng="10800000" swAng="-5400000"/>
                <a:lnTo>
                  <a:pt x="9960" y="21600"/>
                </a:lnTo>
                <a:arcTo wR="8198" hR="21600" stAng="5400000" swAng="140953"/>
                <a:lnTo>
                  <a:pt x="9079" y="21475"/>
                </a:lnTo>
                <a:arcTo wR="8198" hR="21600" stAng="5540953" swAng="5259047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CFEF-A782-40A4-8710-73BA7AB84F4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4753080" y="2057400"/>
            <a:ext cx="357012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85D2-670C-4F00-A5A3-B098ABF6A69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CI Express is the third-gener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eripheral Component Inter-connect technology for a wide range of syste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d periphe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vic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used in mobile, desktop, workstation,     server and communication platform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819520" y="4952880"/>
            <a:ext cx="3047760" cy="149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74C6-A294-468D-9996-5B286304DD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CI Express implements a serial, point-to-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ual simplex  type interconnec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provides significantly high performance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igh speed  and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us, compared with predecessor buse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24080" y="3276720"/>
            <a:ext cx="2648160" cy="2276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8600" y="5486400"/>
            <a:ext cx="8534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urren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ransmission and reception data r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 2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b/s, but it is expected that frequency to double to 5 Gbits/s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302-6CED-4116-AEC4-CD105EEB27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7600" y="1600200"/>
            <a:ext cx="5068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ultiple PC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evic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re interconnected via switche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o large number of devic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can be connected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ogehter in a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witch can range from a          2-port device to an n-port device, where each port connects          to a PCI Express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47D-A943-49D6-9EC5-B23985ABE6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NewRoman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33520" y="2362320"/>
            <a:ext cx="8000640" cy="2208600"/>
            <a:chOff x="533520" y="2362320"/>
            <a:chExt cx="8000640" cy="2208600"/>
          </a:xfrm>
        </p:grpSpPr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533520" y="2362320"/>
              <a:ext cx="8000640" cy="220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" name=""/>
            <p:cNvGrpSpPr/>
            <p:nvPr/>
          </p:nvGrpSpPr>
          <p:grpSpPr>
            <a:xfrm>
              <a:off x="674640" y="2715840"/>
              <a:ext cx="7723800" cy="1364760"/>
              <a:chOff x="674640" y="2715840"/>
              <a:chExt cx="7723800" cy="1364760"/>
            </a:xfrm>
          </p:grpSpPr>
          <p:sp>
            <p:nvSpPr>
              <p:cNvPr id="159" name=""/>
              <p:cNvSpPr/>
              <p:nvPr/>
            </p:nvSpPr>
            <p:spPr>
              <a:xfrm>
                <a:off x="674640" y="2731320"/>
                <a:ext cx="7723800" cy="134928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74640" y="2731320"/>
                <a:ext cx="7723800" cy="1135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43040" y="2753280"/>
                <a:ext cx="564120" cy="102744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671480" y="2715840"/>
                <a:ext cx="6352560" cy="11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vs PCI Expres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61960" y="3229560"/>
                <a:ext cx="662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838080" y="2895480"/>
            <a:ext cx="5943600" cy="654120"/>
            <a:chOff x="838080" y="2895480"/>
            <a:chExt cx="5943600" cy="654120"/>
          </a:xfrm>
        </p:grpSpPr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838080" y="2895480"/>
              <a:ext cx="594360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" name=""/>
            <p:cNvGrpSpPr/>
            <p:nvPr/>
          </p:nvGrpSpPr>
          <p:grpSpPr>
            <a:xfrm>
              <a:off x="942840" y="3000240"/>
              <a:ext cx="5738040" cy="404640"/>
              <a:chOff x="942840" y="3000240"/>
              <a:chExt cx="5738040" cy="404640"/>
            </a:xfrm>
          </p:grpSpPr>
          <p:sp>
            <p:nvSpPr>
              <p:cNvPr id="167" name=""/>
              <p:cNvSpPr/>
              <p:nvPr/>
            </p:nvSpPr>
            <p:spPr>
              <a:xfrm>
                <a:off x="942840" y="3004920"/>
                <a:ext cx="57380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942840" y="3004920"/>
                <a:ext cx="57380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993600" y="3011400"/>
                <a:ext cx="4190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683360" y="3000240"/>
                <a:ext cx="471924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Topolog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27480" y="3044520"/>
                <a:ext cx="4923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1143000" y="3733920"/>
            <a:ext cx="6095880" cy="653760"/>
            <a:chOff x="1143000" y="3733920"/>
            <a:chExt cx="6095880" cy="653760"/>
          </a:xfrm>
        </p:grpSpPr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1143000" y="3733920"/>
              <a:ext cx="6095880" cy="65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" name=""/>
            <p:cNvGrpSpPr/>
            <p:nvPr/>
          </p:nvGrpSpPr>
          <p:grpSpPr>
            <a:xfrm>
              <a:off x="1250640" y="3838320"/>
              <a:ext cx="5885280" cy="403920"/>
              <a:chOff x="1250640" y="3838320"/>
              <a:chExt cx="5885280" cy="403920"/>
            </a:xfrm>
          </p:grpSpPr>
          <p:sp>
            <p:nvSpPr>
              <p:cNvPr id="175" name=""/>
              <p:cNvSpPr/>
              <p:nvPr/>
            </p:nvSpPr>
            <p:spPr>
              <a:xfrm>
                <a:off x="1250640" y="3842640"/>
                <a:ext cx="5885280" cy="39960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250640" y="3842640"/>
                <a:ext cx="5885280" cy="336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02480" y="3849120"/>
                <a:ext cx="429840" cy="30420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010240" y="3838320"/>
                <a:ext cx="4840200" cy="3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Overvie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850400" y="3882240"/>
                <a:ext cx="5049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1523880" y="4572000"/>
            <a:ext cx="6248520" cy="654120"/>
            <a:chOff x="1523880" y="4572000"/>
            <a:chExt cx="6248520" cy="654120"/>
          </a:xfrm>
        </p:grpSpPr>
        <p:pic>
          <p:nvPicPr>
            <p:cNvPr id="181" name="" descr=""/>
            <p:cNvPicPr/>
            <p:nvPr/>
          </p:nvPicPr>
          <p:blipFill>
            <a:blip r:embed="rId5"/>
            <a:stretch/>
          </p:blipFill>
          <p:spPr>
            <a:xfrm>
              <a:off x="1523880" y="4572000"/>
              <a:ext cx="624852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"/>
            <p:cNvGrpSpPr/>
            <p:nvPr/>
          </p:nvGrpSpPr>
          <p:grpSpPr>
            <a:xfrm>
              <a:off x="1634040" y="4676760"/>
              <a:ext cx="6032520" cy="404640"/>
              <a:chOff x="1634040" y="4676760"/>
              <a:chExt cx="6032520" cy="404640"/>
            </a:xfrm>
          </p:grpSpPr>
          <p:sp>
            <p:nvSpPr>
              <p:cNvPr id="183" name=""/>
              <p:cNvSpPr/>
              <p:nvPr/>
            </p:nvSpPr>
            <p:spPr>
              <a:xfrm>
                <a:off x="1634040" y="4681440"/>
                <a:ext cx="603252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634040" y="4681440"/>
                <a:ext cx="603252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687320" y="4687920"/>
                <a:ext cx="4406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412720" y="4676760"/>
                <a:ext cx="49615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ransaction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248920" y="4721040"/>
                <a:ext cx="5175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1905120" y="5486400"/>
            <a:ext cx="6476760" cy="654120"/>
            <a:chOff x="1905120" y="5486400"/>
            <a:chExt cx="6476760" cy="654120"/>
          </a:xfrm>
        </p:grpSpPr>
        <p:pic>
          <p:nvPicPr>
            <p:cNvPr id="189" name="" descr=""/>
            <p:cNvPicPr/>
            <p:nvPr/>
          </p:nvPicPr>
          <p:blipFill>
            <a:blip r:embed="rId6"/>
            <a:stretch/>
          </p:blipFill>
          <p:spPr>
            <a:xfrm>
              <a:off x="1905120" y="5486400"/>
              <a:ext cx="64767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0" name=""/>
            <p:cNvGrpSpPr/>
            <p:nvPr/>
          </p:nvGrpSpPr>
          <p:grpSpPr>
            <a:xfrm>
              <a:off x="2019240" y="5591160"/>
              <a:ext cx="6252840" cy="404640"/>
              <a:chOff x="2019240" y="5591160"/>
              <a:chExt cx="6252840" cy="404640"/>
            </a:xfrm>
          </p:grpSpPr>
          <p:sp>
            <p:nvSpPr>
              <p:cNvPr id="191" name=""/>
              <p:cNvSpPr/>
              <p:nvPr/>
            </p:nvSpPr>
            <p:spPr>
              <a:xfrm>
                <a:off x="2019240" y="5595840"/>
                <a:ext cx="625284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19240" y="5595840"/>
                <a:ext cx="625284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074320" y="5602320"/>
                <a:ext cx="45648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26360" y="5591160"/>
                <a:ext cx="514260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800" spc="-1" strike="noStrike">
                    <a:solidFill>
                      <a:srgbClr val="000000"/>
                    </a:solidFill>
                    <a:latin typeface="Arial"/>
                  </a:rPr>
                  <a:t>PCI Express Device Layer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656440" y="5635440"/>
                <a:ext cx="5364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2438280" y="4343400"/>
            <a:ext cx="3505320" cy="224316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304920" y="1295280"/>
            <a:ext cx="6019560" cy="654120"/>
            <a:chOff x="304920" y="1295280"/>
            <a:chExt cx="6019560" cy="654120"/>
          </a:xfrm>
        </p:grpSpPr>
        <p:pic>
          <p:nvPicPr>
            <p:cNvPr id="198" name="" descr=""/>
            <p:cNvPicPr/>
            <p:nvPr/>
          </p:nvPicPr>
          <p:blipFill>
            <a:blip r:embed="rId8"/>
            <a:stretch/>
          </p:blipFill>
          <p:spPr>
            <a:xfrm>
              <a:off x="304920" y="1295280"/>
              <a:ext cx="6019560" cy="65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"/>
            <p:cNvGrpSpPr/>
            <p:nvPr/>
          </p:nvGrpSpPr>
          <p:grpSpPr>
            <a:xfrm>
              <a:off x="411120" y="1400040"/>
              <a:ext cx="5811480" cy="404640"/>
              <a:chOff x="411120" y="1400040"/>
              <a:chExt cx="5811480" cy="404640"/>
            </a:xfrm>
          </p:grpSpPr>
          <p:sp>
            <p:nvSpPr>
              <p:cNvPr id="200" name=""/>
              <p:cNvSpPr/>
              <p:nvPr/>
            </p:nvSpPr>
            <p:spPr>
              <a:xfrm>
                <a:off x="411120" y="1404720"/>
                <a:ext cx="5811480" cy="399960"/>
              </a:xfrm>
              <a:prstGeom prst="roundRect">
                <a:avLst>
                  <a:gd name="adj" fmla="val 5000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11120" y="1404720"/>
                <a:ext cx="5811480" cy="336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6ccff"/>
                  </a:gs>
                  <a:gs pos="100000">
                    <a:srgbClr val="ffffff"/>
                  </a:gs>
                </a:gsLst>
                <a:lin ang="135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2600" y="1411200"/>
                <a:ext cx="424440" cy="304560"/>
              </a:xfrm>
              <a:prstGeom prst="ellips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94b96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66ff"/>
                    </a:solidFill>
                    <a:latin typeface="HY각헤드라인M"/>
                    <a:ea typeface="HY각헤드라인M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161000" y="1400040"/>
                <a:ext cx="47797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Introduct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003320" y="1444320"/>
                <a:ext cx="4986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12B8-3B8A-4AFC-8049-D6D87EB504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PCI vs PCI Exp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't Throw Away What is Good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eep I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76920" y="4267080"/>
            <a:ext cx="3657600" cy="17528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09480" y="4267080"/>
            <a:ext cx="3962520" cy="179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2362320" y="2971800"/>
            <a:ext cx="5181480" cy="1295280"/>
          </a:xfrm>
          <a:custGeom>
            <a:avLst/>
            <a:gdLst>
              <a:gd name="textAreaLeft" fmla="*/ 906480 w 5181480"/>
              <a:gd name="textAreaRight" fmla="*/ 3756600 w 5181480"/>
              <a:gd name="textAreaTop" fmla="*/ 173520 h 1295280"/>
              <a:gd name="textAreaBottom" fmla="*/ 112176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DE7C-88F0-4ABE-90E4-E8893A6159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99ff"/>
                </a:solidFill>
                <a:latin typeface="Times New Roman"/>
              </a:rPr>
              <a:t>PCI vs PCI Expres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PC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I and PCI-X buses are multi-drop,  parallel, interconnect buses,                       in which many devices share one b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701028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A9FC-D290-4AA8-B3BE-248A2248D4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0:32:28Z</dcterms:created>
  <dc:creator>Bojana</dc:creator>
  <dc:description/>
  <dc:language>en-US</dc:language>
  <cp:lastModifiedBy>Bojana</cp:lastModifiedBy>
  <dcterms:modified xsi:type="dcterms:W3CDTF">2005-11-11T16:27:05Z</dcterms:modified>
  <cp:revision>57</cp:revision>
  <dc:subject/>
  <dc:title>Slide 1</dc:title>
</cp:coreProperties>
</file>