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4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283-DFC3-4D20-B89A-12A1B9DF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D80-41CD-4A28-82F1-97C851E7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4D3-6540-4AF8-A60C-DB7CAFE7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46F7-D4F8-47B6-84F1-63A79EA0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804-DA33-4D0A-B310-17701EA1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A2B-C8B3-45C7-A200-D504ECF2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C8FF-919F-4ED4-93BE-00BE98FF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832-3E5C-48C0-9F53-862A289F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500-B2F7-4267-9254-1F1D244C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5F1-F1B9-465F-A302-607DD62B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7D5-0018-4842-9760-7BAA1625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D58-6200-4E24-B38E-EE765D5E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7110-CFF0-4376-AA1A-DB67D46F8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53044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PGA Implementacija RSA public key kripto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43000" y="5943600"/>
            <a:ext cx="22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ksandar Bradic 231/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k.br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000" y="5899320"/>
            <a:ext cx="294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dmet : Racunarski VLSI siste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: Dr. Veljko Milutinov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istent: Tatjana Petrov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FINAL" descr=""/>
          <p:cNvPicPr/>
          <p:nvPr/>
        </p:nvPicPr>
        <p:blipFill>
          <a:blip r:embed="rId1"/>
          <a:stretch/>
        </p:blipFill>
        <p:spPr>
          <a:xfrm>
            <a:off x="2514600" y="927000"/>
            <a:ext cx="38862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200" y="30492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Modular Multiplier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8928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20800" y="176364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8018640" y="126036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24680" y="22860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p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7040" y="498600"/>
            <a:ext cx="304560" cy="45720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90680" y="955800"/>
            <a:ext cx="229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product = X * Y mod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54160" y="24444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p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408440" y="498600"/>
            <a:ext cx="228600" cy="45720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modmult" descr=""/>
          <p:cNvPicPr/>
          <p:nvPr/>
        </p:nvPicPr>
        <p:blipFill>
          <a:blip r:embed="rId1"/>
          <a:stretch/>
        </p:blipFill>
        <p:spPr>
          <a:xfrm>
            <a:off x="444600" y="1905120"/>
            <a:ext cx="2679480" cy="3047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124080" y="2746440"/>
            <a:ext cx="5791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kuje da primi mnozioce na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mp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mpli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gistralama i moduo, na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modul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gistr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kon Data Set signalizacije (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gnal), ucitava podatke sa     magistrala i vrsi izracunava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 zavrsetku izracunavanja, “izbacuje” rezultat na product magistali  i  signalizira zavrsetak ciklusa, postavljanjem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rea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gna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834200" y="303228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modmult.vh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809800" y="1447560"/>
            <a:ext cx="10670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95840" y="1143000"/>
            <a:ext cx="19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klaracije </a:t>
            </a:r>
            <a:r>
              <a:rPr b="0" lang="en-US" sz="1400" spc="-1" strike="noStrike">
                <a:solidFill>
                  <a:srgbClr val="808000"/>
                </a:solidFill>
                <a:latin typeface="Arial"/>
              </a:rPr>
              <a:t>includ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09680" y="1905120"/>
            <a:ext cx="27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00"/>
                </a:solidFill>
                <a:latin typeface="Arial"/>
              </a:rPr>
              <a:t>ent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strukturalni opis interfej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16600" y="2743200"/>
            <a:ext cx="164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klaracije </a:t>
            </a:r>
            <a:r>
              <a:rPr b="0" lang="en-US" sz="1400" spc="-1" strike="noStrike">
                <a:solidFill>
                  <a:srgbClr val="808000"/>
                </a:solidFill>
                <a:latin typeface="Arial"/>
              </a:rPr>
              <a:t>signa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267000" y="213372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343320" y="289512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07520" y="3505320"/>
            <a:ext cx="29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cija funkcionalne s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43320" y="33526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74920" y="4648320"/>
            <a:ext cx="209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izacija state </a:t>
            </a:r>
            <a:r>
              <a:rPr b="0" lang="en-US" sz="1400" spc="-1" strike="noStrike">
                <a:solidFill>
                  <a:srgbClr val="808000"/>
                </a:solidFill>
                <a:latin typeface="Arial"/>
              </a:rPr>
              <a:t>proc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38400" y="3429000"/>
            <a:ext cx="1371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4640" y="304920"/>
            <a:ext cx="43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Modular Multiplier : Realizacija VHDL op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28840" y="160020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Strukturalni dizaj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1800" y="16002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VHDL opi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2160720"/>
            <a:ext cx="464796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ity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odmul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ic (MPWID: integer := 3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 ( mpand : in std_logic_vector(MPWID-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lier : in std_logic_vector(MPWID-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ulus : in std_logic_vector(MPWID-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: out std_logic_vector(MPWID-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k : in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 : in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t : in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 : out std_logic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modmu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modmult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2411280" cy="2743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5720" y="304920"/>
            <a:ext cx="34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ent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strukturalni opis interfej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1871640"/>
            <a:ext cx="723888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chitecture modmult1 of modmul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 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mpre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std_logic_vector(MPWID-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cre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cre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creg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std_logic_vector(MPWID+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 </a:t>
            </a:r>
            <a:r>
              <a:rPr b="1" lang="en-US" sz="1200" spc="-1" strike="noStrike">
                <a:solidFill>
                  <a:srgbClr val="808000"/>
                </a:solidFill>
                <a:latin typeface="Arial"/>
              </a:rPr>
              <a:t>modre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808000"/>
                </a:solidFill>
                <a:latin typeface="Arial"/>
              </a:rPr>
              <a:t>modreg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std_logic_vector(MPWID+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re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re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reg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reg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reg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std_logic_vector(MPWID+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modst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std_logic_vector(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 </a:t>
            </a:r>
            <a:r>
              <a:rPr b="1" lang="en-US" sz="1200" spc="-1" strike="noStrike">
                <a:solidFill>
                  <a:srgbClr val="660033"/>
                </a:solidFill>
                <a:latin typeface="Arial"/>
              </a:rPr>
              <a:t>fir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114440" y="1219320"/>
            <a:ext cx="1219320" cy="11728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6240" y="91440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00"/>
                </a:solidFill>
                <a:latin typeface="Arial"/>
              </a:rPr>
              <a:t>mnoz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057400" y="3763800"/>
            <a:ext cx="914400" cy="14479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4200" y="5211720"/>
            <a:ext cx="18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Opisuje stanje sis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724280" y="1600200"/>
            <a:ext cx="1905120" cy="1096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8560" y="297180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00"/>
                </a:solidFill>
                <a:latin typeface="Arial"/>
              </a:rPr>
              <a:t>vrednosti mod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914400" y="4068360"/>
            <a:ext cx="0" cy="762120"/>
          </a:xfrm>
          <a:prstGeom prst="line">
            <a:avLst/>
          </a:prstGeom>
          <a:ln w="93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0760" y="490680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60033"/>
                </a:solidFill>
                <a:latin typeface="Arial"/>
              </a:rPr>
              <a:t>Sinhronizacioni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30480" y="137160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3399"/>
                </a:solidFill>
                <a:latin typeface="Arial"/>
              </a:rPr>
              <a:t>mnozil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4572000" y="3534840"/>
            <a:ext cx="990720" cy="762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61560" y="4297320"/>
            <a:ext cx="158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pomocne vredno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proizv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9240" y="304920"/>
            <a:ext cx="198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klaracije 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sign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181480" y="3124080"/>
            <a:ext cx="2286000" cy="0"/>
          </a:xfrm>
          <a:prstGeom prst="line">
            <a:avLst/>
          </a:prstGeom>
          <a:ln w="93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1143000"/>
            <a:ext cx="647676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produc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&lt;= prodreg4(MPWID-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mpre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0) 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re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re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cre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hen '1'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re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hen oth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reg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re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200" spc="-1" strike="noStrike">
                <a:solidFill>
                  <a:srgbClr val="808000"/>
                </a:solidFill>
                <a:latin typeface="Arial"/>
              </a:rPr>
              <a:t>modre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reg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re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200" spc="-1" strike="noStrike">
                <a:solidFill>
                  <a:srgbClr val="808000"/>
                </a:solidFill>
                <a:latin typeface="Arial"/>
              </a:rPr>
              <a:t>modreg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modst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reg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pwid+1) &amp;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reg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pwid+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modstat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reg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re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hen "11"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reg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hen "10"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rodreg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hen oth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cre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cre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200" spc="-1" strike="noStrike">
                <a:solidFill>
                  <a:srgbClr val="808000"/>
                </a:solidFill>
                <a:latin typeface="Arial"/>
              </a:rPr>
              <a:t>modre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cre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MPWID) 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creg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cre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hen '1'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creg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when oth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 &lt;= </a:t>
            </a:r>
            <a:r>
              <a:rPr b="1" lang="en-US" sz="1200" spc="-1" strike="noStrike">
                <a:solidFill>
                  <a:srgbClr val="660033"/>
                </a:solidFill>
                <a:latin typeface="Arial"/>
              </a:rPr>
              <a:t>fir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920" y="304920"/>
            <a:ext cx="36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Implementacija funkcionalne sh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4680" y="1168560"/>
            <a:ext cx="114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konacni rezul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657600" y="1295280"/>
            <a:ext cx="22860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20280" y="1701720"/>
            <a:ext cx="1694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shift-ujemo, ako je bit ‘1’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inace kopiramo orig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76560" y="1905120"/>
            <a:ext cx="11430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4880" y="2311560"/>
            <a:ext cx="140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P2 = P1 – modu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P3 = P1 – (2*modu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572000" y="2514600"/>
            <a:ext cx="9907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64840" y="2921040"/>
            <a:ext cx="17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stanje i izlaz,odredjuje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na osnovu najvisih bito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410080" y="2971800"/>
            <a:ext cx="1447920" cy="763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952880" y="3276720"/>
            <a:ext cx="1905120" cy="3045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5040" y="4191120"/>
            <a:ext cx="233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oduzimamo moduo od shift-ovan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mnozioca i biramo odgovarajucu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vrednost modu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733920" y="4267080"/>
            <a:ext cx="22096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4080" y="6126120"/>
            <a:ext cx="178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sinhronizacioni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5638680"/>
            <a:ext cx="144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038480" y="4724280"/>
            <a:ext cx="1905120" cy="3049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838080"/>
            <a:ext cx="8382240" cy="58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combine: process (clk, first, ds, mpreg, reset)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reset = '1' then </a:t>
            </a: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 first &lt;= '1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if rising_edge(clk)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first = '1'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ds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preg &lt;= mpli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creg &lt;= "00" &amp; mpan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odreg1 &lt;= "00" &amp; modulu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odreg2 &lt;= '0' &amp; modulus &amp; '0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prodreg &lt;= (others =&gt; '0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first &lt;= '0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e   if mpreg = 0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first &lt;= '1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mcreg &lt;= mcreg2(MPWID downto 0) &amp; '0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mpreg &lt;= '0' &amp; mpreg(MPWID-1 downto 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prodreg &lt;= prodreg4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  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d process combin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8760" y="304920"/>
            <a:ext cx="24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bine : state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920" y="1347840"/>
            <a:ext cx="222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Prvi ulazak u petlju (nakon rese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666880" y="1500120"/>
            <a:ext cx="22860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160" y="2135160"/>
            <a:ext cx="366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Ukoliko je prvi ulazak i eksterni uredjaj je signalizir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da su podaci spremni, ucitavamo vrednosti sa magistral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u lokalne regis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057400" y="2338560"/>
            <a:ext cx="18288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809880" y="3429000"/>
            <a:ext cx="9907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02760" y="3276720"/>
            <a:ext cx="150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modreg2 = 2*modu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429000" y="3786120"/>
            <a:ext cx="9907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360" y="3633840"/>
            <a:ext cx="26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ostale signale inicijano postavljamo na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047760" y="4624560"/>
            <a:ext cx="99036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6680" y="4471920"/>
            <a:ext cx="363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ako nema vise jedinica u mnoziocu, operacija je zavrs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276360" y="5691240"/>
            <a:ext cx="99036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440" y="553896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kopiramo medjuproizvod u izlazni regis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343400" y="5157720"/>
            <a:ext cx="9907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560" y="5005440"/>
            <a:ext cx="34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pomeramo mnozac jedno mesto u levo i mnozilac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jedno mesto u desno (prema Shift and Add algoritmu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30400" y="2498760"/>
            <a:ext cx="536220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TITY testbench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D testbench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ARCHITECTURE behavior OF testbench 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OMPONENT modmult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RT(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pand : IN std_logic_vector(31 downto 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plier : IN std_logic_vector(31 downto 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odulus : IN std_logic_vector(31 downto 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k : IN std_logic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s : IN std_logic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set : IN std_logic;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duct : OUT std_logic_vector(31 downto 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y : OUT std_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D COMPONE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6280" y="3505320"/>
            <a:ext cx="25430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BE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uut: modmult32 PORT MAP(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pand =&gt; mpand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plier =&gt; mpli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modulus =&gt; modulu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duct =&gt; produc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k =&gt; clk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s =&gt; d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set =&gt; rese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y =&gt; rea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*** User defined Stimulus 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0400" y="5181480"/>
            <a:ext cx="47527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IGNAL mpand :  std_logic_vector(31 downto 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IGNAL mplier :  std_logic_vector(31 downto 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IGNAL modulus :  std_logic_vector(31 downto 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IGNAL product :  std_logic_vector(31 downto 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IGNAL clk :  std_logic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IGNAL ds :  std_logic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IGNAL reset :  std_logic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IGNAL ready :  std_logic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6600" y="30492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estiranje VHDL op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838080"/>
            <a:ext cx="63248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reiramo novi vhdl opis – </a:t>
            </a:r>
            <a:r>
              <a:rPr b="0" lang="en-US" sz="1400" spc="-1" strike="noStrike">
                <a:solidFill>
                  <a:srgbClr val="808000"/>
                </a:solidFill>
                <a:latin typeface="Arial"/>
              </a:rPr>
              <a:t>Testben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, koji nema interfejs, unutar koga definisemo i instanciramo UUT (Unit Under Te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utar TestBench-a, definisemo signale koji odgovaraju ulazima UU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vrsimo njihovo mapiranje na odgovarajuce port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reiramo procese – “stimuluse”, koji generisu signale na odgovarajuc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ovima, i posmatramo rezultate na izlaznim signa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esttbench2" descr=""/>
          <p:cNvPicPr/>
          <p:nvPr/>
        </p:nvPicPr>
        <p:blipFill>
          <a:blip r:embed="rId1"/>
          <a:stretch/>
        </p:blipFill>
        <p:spPr>
          <a:xfrm>
            <a:off x="4876920" y="581040"/>
            <a:ext cx="3871800" cy="56674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9840" y="304920"/>
            <a:ext cx="37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Automatsk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enerisanje Testbench-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428920"/>
            <a:ext cx="457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o generisanje Testbench-a sa zadati vhdl faj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 moze realizovati  automatski unutar ActiveHDL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ako generisani testbench predstavlja sa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ciju i instanciranje UUT, sami </a:t>
            </a:r>
            <a:r>
              <a:rPr b="0" lang="en-US" sz="1400" spc="-1" strike="noStrike">
                <a:solidFill>
                  <a:srgbClr val="808000"/>
                </a:solidFill>
                <a:latin typeface="Arial"/>
              </a:rPr>
              <a:t>test vektor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dalje moraju “rucno” definis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vektori se opisuju kao procesi koji generi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e na odgovarajucim portovima UUT-a, tak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 izazovu odgovarajuce reakcije, jedinice koj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ra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3520" y="1227240"/>
            <a:ext cx="383364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-- *** Test Bench - User Defined Section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tb :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reset &lt;= '1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wait until clk = '1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reset &lt;= '0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wait until clk = '0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ds &lt;= '1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pand &lt;= x"00003285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plier &lt;= x"00000015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odulus &lt;= x"00007f00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wait; -- will wait for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lkgen: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wait for 3 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if clk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lk &lt;= '0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lk &lt;= '1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-- *** End Test Bench - User Defined Section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440" y="1523880"/>
            <a:ext cx="183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Inicijalizujemo mnoz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7960" y="5029200"/>
            <a:ext cx="128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Simuliram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generator tak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962520" y="1752480"/>
            <a:ext cx="1371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419360" y="49525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895480"/>
            <a:ext cx="152280" cy="53352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53000" y="2971800"/>
            <a:ext cx="22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Zadajemo mnozioce i modu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8200" y="4114800"/>
            <a:ext cx="231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00"/>
                </a:solidFill>
                <a:latin typeface="Arial"/>
              </a:rPr>
              <a:t>Ocekujemo moduo proizv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00"/>
                </a:solidFill>
                <a:latin typeface="Arial"/>
              </a:rPr>
              <a:t>na izlazu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9480" y="304920"/>
            <a:ext cx="35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bench : zadavanje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 test vekt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Clip_8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162560" cy="5730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8760" y="30492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acija u 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Active HD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6880" y="153180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SA public key enkripcija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057400"/>
            <a:ext cx="7367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ogucava enkriptovanu komunikaciju izmedju uredjaja koji ne mora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znavati unapred definisani kljuc (kao kod sistema sa simetricnim kljucevi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 ovaj nacin, moguce je ostvariti potpuno “sigurnu” komunikaciju izmedju bi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ja dva komunikaciona uredj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sniva se na upotrebi 2 kljuca : tajnog i javn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kripcija se vrsi javnim a dekripcija tajnim kljuc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6720" y="304920"/>
            <a:ext cx="33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Zadatak : Implementa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FPGA RSA enkoder/dekod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" descr=""/>
          <p:cNvPicPr/>
          <p:nvPr/>
        </p:nvPicPr>
        <p:blipFill>
          <a:blip r:embed="rId1"/>
          <a:stretch/>
        </p:blipFill>
        <p:spPr>
          <a:xfrm>
            <a:off x="6858000" y="152280"/>
            <a:ext cx="1851120" cy="1040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1040" y="5181480"/>
            <a:ext cx="628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iziramo dizajn i implementaciju jednog realnog RSA IP core-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http://www.opencores.org/projects/basicrsa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920" y="304920"/>
            <a:ext cx="325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Active HD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rezultati simula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simulationMULT1" descr=""/>
          <p:cNvPicPr/>
          <p:nvPr/>
        </p:nvPicPr>
        <p:blipFill>
          <a:blip r:embed="rId1"/>
          <a:stretch/>
        </p:blipFill>
        <p:spPr>
          <a:xfrm>
            <a:off x="990720" y="896760"/>
            <a:ext cx="739116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49720" y="2819520"/>
            <a:ext cx="59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rak 2 : Implementacija RSA enko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1295280"/>
            <a:ext cx="68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kuje podatke koje treba da enkriptuje/dekriptuje na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in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,eksponent na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inEx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 moduo na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inM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gistr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ekuje odgovarajuce sinhronizacione signa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rsi proces </a:t>
            </a:r>
            <a:r>
              <a:rPr b="0" lang="en-US" sz="1400" spc="-1" strike="noStrike">
                <a:solidFill>
                  <a:srgbClr val="808000"/>
                </a:solidFill>
                <a:latin typeface="Arial"/>
              </a:rPr>
              <a:t>modularne eksponencijaci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izira zavrsetak operaci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zbacuje enkriptovane/dekriptovane podatke na 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yp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gistr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6920" y="5181480"/>
            <a:ext cx="37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00"/>
                </a:solidFill>
                <a:latin typeface="Arial"/>
              </a:rPr>
              <a:t>Realizacija modularne eksponencijacije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7080" y="30492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RSA enk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RSAcirc" descr=""/>
          <p:cNvPicPr/>
          <p:nvPr/>
        </p:nvPicPr>
        <p:blipFill>
          <a:blip r:embed="rId1"/>
          <a:stretch/>
        </p:blipFill>
        <p:spPr>
          <a:xfrm>
            <a:off x="6026040" y="2944800"/>
            <a:ext cx="250848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652699135649a1627bd4977af3c6f1f3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807160" cy="857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04920" y="1371600"/>
            <a:ext cx="70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oritam koji se koristi za brzo racunanje velikih celobrojnih stepena zadatog broj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3505320"/>
            <a:ext cx="70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 odnosu na algoritam koji podrazumeva mnozenje x, samim sobom n-1 puta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aj algoritam vrsi samo O(log n) mnozenja, cime drasticno ubrzava ceo 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7680" y="304920"/>
            <a:ext cx="31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Eksponencijacija Kvadriranj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880" y="2362320"/>
            <a:ext cx="662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 svaki bit eksponenta, vrednost poruke se kvadr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 svako ‘1’ u eksponentu, vrednost poruke se mnozi sa rezultatom kvadriran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cija se zavrsava kada nema vise jedinica u eksponen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191120"/>
            <a:ext cx="70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00"/>
                </a:solidFill>
                <a:latin typeface="Arial"/>
              </a:rPr>
              <a:t>=&gt; u dizajnu su nam potrebna dva mnozaca : jedan za kvadriranje i jedan za mnoze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560" y="1600200"/>
            <a:ext cx="31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Square and Multiply algoritam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2360" y="304920"/>
            <a:ext cx="50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Modularna Eksponencijacij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Square and Multi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9d5c76b09c32b39de8ffb8b470845479" descr=""/>
          <p:cNvPicPr/>
          <p:nvPr/>
        </p:nvPicPr>
        <p:blipFill>
          <a:blip r:embed="rId1"/>
          <a:stretch/>
        </p:blipFill>
        <p:spPr>
          <a:xfrm>
            <a:off x="6632640" y="1619280"/>
            <a:ext cx="1600200" cy="193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610320" y="1009800"/>
            <a:ext cx="9828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30880" y="70488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Arial"/>
              </a:rPr>
              <a:t>cyp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318440" y="781200"/>
            <a:ext cx="30456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8156160" y="10098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46880" y="55260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Arial"/>
              </a:rPr>
              <a:t>ex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04040" y="78120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Arial"/>
              </a:rPr>
              <a:t>modu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7192440" y="1847520"/>
            <a:ext cx="295560" cy="34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89080" y="211788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Arial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73720" y="318456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modmult.vh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911320" y="1676160"/>
            <a:ext cx="8604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97160" y="1295280"/>
            <a:ext cx="19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klaracije </a:t>
            </a:r>
            <a:r>
              <a:rPr b="0" lang="en-US" sz="1400" spc="-1" strike="noStrike">
                <a:solidFill>
                  <a:srgbClr val="808000"/>
                </a:solidFill>
                <a:latin typeface="Arial"/>
              </a:rPr>
              <a:t>includ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42800" y="1676520"/>
            <a:ext cx="27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00"/>
                </a:solidFill>
                <a:latin typeface="Arial"/>
              </a:rPr>
              <a:t>ent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strukturalni opis interfej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47120" y="3505320"/>
            <a:ext cx="220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anciranje  </a:t>
            </a:r>
            <a:r>
              <a:rPr b="0" lang="en-US" sz="1400" spc="-1" strike="noStrike">
                <a:solidFill>
                  <a:srgbClr val="808000"/>
                </a:solidFill>
                <a:latin typeface="Arial"/>
              </a:rPr>
              <a:t>kompon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206880" y="1980720"/>
            <a:ext cx="11523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429000"/>
            <a:ext cx="1676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02280" y="2895480"/>
            <a:ext cx="164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klaracije </a:t>
            </a:r>
            <a:r>
              <a:rPr b="0" lang="en-US" sz="1400" spc="-1" strike="noStrike">
                <a:solidFill>
                  <a:srgbClr val="808000"/>
                </a:solidFill>
                <a:latin typeface="Arial"/>
              </a:rPr>
              <a:t>signa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82840" y="3505320"/>
            <a:ext cx="15177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3200" y="4876920"/>
            <a:ext cx="209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izacija state </a:t>
            </a:r>
            <a:r>
              <a:rPr b="0" lang="en-US" sz="1400" spc="-1" strike="noStrike">
                <a:solidFill>
                  <a:srgbClr val="808000"/>
                </a:solidFill>
                <a:latin typeface="Arial"/>
              </a:rPr>
              <a:t>proc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8280" y="3581280"/>
            <a:ext cx="145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9960" y="304920"/>
            <a:ext cx="377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RSA Cypher : Realizacija VHDL op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0480" y="228600"/>
            <a:ext cx="182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cija  </a:t>
            </a:r>
            <a:r>
              <a:rPr b="0" lang="en-US" sz="1400" spc="-1" strike="noStrike">
                <a:solidFill>
                  <a:srgbClr val="808000"/>
                </a:solidFill>
                <a:latin typeface="Arial"/>
              </a:rPr>
              <a:t>arhitek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292560" y="2437920"/>
            <a:ext cx="17524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6480" y="4648320"/>
            <a:ext cx="16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iranje </a:t>
            </a:r>
            <a:r>
              <a:rPr b="0" lang="en-US" sz="1400" spc="-1" strike="noStrike">
                <a:solidFill>
                  <a:srgbClr val="808000"/>
                </a:solidFill>
                <a:latin typeface="Arial"/>
              </a:rPr>
              <a:t>port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16240" y="3581280"/>
            <a:ext cx="1203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1640" y="2209680"/>
            <a:ext cx="26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cija eksternih</a:t>
            </a:r>
            <a:r>
              <a:rPr b="0" lang="en-US" sz="1400" spc="-1" strike="noStrike">
                <a:solidFill>
                  <a:srgbClr val="808000"/>
                </a:solidFill>
                <a:latin typeface="Arial"/>
              </a:rPr>
              <a:t> kompone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276720" y="3048120"/>
            <a:ext cx="1828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21480" y="411480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cija funkcionalne sh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4760" y="2362320"/>
            <a:ext cx="4878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ity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RSACyphe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ic (KEYSIZE: integer := 3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 (indata: in std_logic_vector(KEYSIZE-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Exp: in std_logic_vector(KEYSIZE-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Mod: in std_logic_vector(KEYSIZE-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ypher: out std_logic_vector(KEYSIZE-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k: in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: in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t: in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: out std_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RSACyph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5720" y="304920"/>
            <a:ext cx="34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ent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strukturalni opis interfej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8840" y="160020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Strukturalni dizaj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1800" y="16002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VHDL opi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RSAcirc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2360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10920" y="2362320"/>
            <a:ext cx="45608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odmul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ic (MPWID: integer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 ( mpand : in std_logic_vector(MPWID-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lier : in std_logic_vector(MPWID-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ulus : in std_logic_vector(MPWID-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: out std_logic_vector(MPWID-1 downto 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k : in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 : in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t : in std_logi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: out std_logic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compon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560" y="304920"/>
            <a:ext cx="32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cija eksternih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 kompon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modmult" descr=""/>
          <p:cNvPicPr/>
          <p:nvPr/>
        </p:nvPicPr>
        <p:blipFill>
          <a:blip r:embed="rId1"/>
          <a:stretch/>
        </p:blipFill>
        <p:spPr>
          <a:xfrm>
            <a:off x="6477120" y="2209680"/>
            <a:ext cx="2009520" cy="2286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80880" y="1219320"/>
            <a:ext cx="480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Za operacije mnozenja i kvadriranja, koristimo komponentu modmult - realizovani modularni mnoz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7800" y="990720"/>
            <a:ext cx="47527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odre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std_logic_vector(KEYSIZE-1 downto 0)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roo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std_logic_vector(KEYSIZE-1 downto 0)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qua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std_logic_vector(KEYSIZE-1 downto 0)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qr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std_logic_vector(KEYSIZE-1 downto 0)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temp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std_logic_vector(KEYSIZE-1 downto 0)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tempou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std_logic_vector(KEYSIZE-1 downto 0)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cou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std_logic_vector(KEYSIZE-1 downto 0)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ultrd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qrrd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bothrd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std_logic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ultg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qrg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std_logic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d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std_logic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9520" y="3962520"/>
            <a:ext cx="3001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odre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radna vrednost modu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roo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vrednost koju kvadrira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squa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rezultat kvadriran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sqr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1 ili kopija kor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temp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1 ili kopija kvad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tempou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rezultat mnozen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ou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radna kopija ekspon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5760" y="350532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Data signali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41360" y="3962520"/>
            <a:ext cx="3890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multrd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zavrseno mnoze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sqrrd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zavrseno kvadrira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bothrd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zavrseno i mnozenje i kvadrira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multg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inicira pocetak mnozen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sqrg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inicira pocetak kvadriran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do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– enkripcija zavrs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78600" y="35053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Sinhronizacioni signali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9240" y="304920"/>
            <a:ext cx="198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klaracije 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sign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2209680"/>
            <a:ext cx="327636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odmultiply: modm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ic Map(MPWID =&gt; KEYSIZ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 Map(mpand =&gt; temp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lier =&gt; sqr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ulus =&gt; modre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=&gt; tempou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k =&gt; cl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 =&gt; multg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t =&gt; rese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 =&gt; multrd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752480" y="15238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029200" y="4647960"/>
            <a:ext cx="533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99960" y="1219320"/>
            <a:ext cx="161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8080"/>
                </a:solidFill>
                <a:latin typeface="Verdana"/>
              </a:rPr>
              <a:t>Vrsi operaciju Mnozen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52640" y="5791320"/>
            <a:ext cx="173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8080"/>
                </a:solidFill>
                <a:latin typeface="Verdana"/>
              </a:rPr>
              <a:t>Vrsi operaciju Kvadriran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1760" y="304920"/>
            <a:ext cx="263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anciranje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 kompon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2209680"/>
            <a:ext cx="335268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odsqr: modm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ic Map(MPWID =&gt; KEYSIZ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t Map(mpand =&gt; roo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lier =&gt; roo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ulus =&gt; modre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=&gt; squa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k =&gt; cl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 =&gt; multg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t =&gt; rese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 =&gt;sqrrd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609480"/>
            <a:ext cx="380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Instanciramo dva mnozaca : jedan za modularno mnozenje  i jedan za kvadrira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98bbb8e6e089c12c4490e4e58822e079" descr=""/>
          <p:cNvPicPr/>
          <p:nvPr/>
        </p:nvPicPr>
        <p:blipFill>
          <a:blip r:embed="rId1"/>
          <a:stretch/>
        </p:blipFill>
        <p:spPr>
          <a:xfrm>
            <a:off x="1523880" y="5029200"/>
            <a:ext cx="1600200" cy="228600"/>
          </a:xfrm>
          <a:prstGeom prst="rect">
            <a:avLst/>
          </a:prstGeom>
          <a:ln w="0">
            <a:noFill/>
          </a:ln>
        </p:spPr>
      </p:pic>
      <p:pic>
        <p:nvPicPr>
          <p:cNvPr id="51" name="9d5c76b09c32b39de8ffb8b470845479" descr=""/>
          <p:cNvPicPr/>
          <p:nvPr/>
        </p:nvPicPr>
        <p:blipFill>
          <a:blip r:embed="rId2"/>
          <a:stretch/>
        </p:blipFill>
        <p:spPr>
          <a:xfrm>
            <a:off x="1420920" y="2057400"/>
            <a:ext cx="1600200" cy="193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6240" y="114300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kripcij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6240" y="38545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Dekripcij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rsa" descr=""/>
          <p:cNvPicPr/>
          <p:nvPr/>
        </p:nvPicPr>
        <p:blipFill>
          <a:blip r:embed="rId3"/>
          <a:stretch/>
        </p:blipFill>
        <p:spPr>
          <a:xfrm>
            <a:off x="4876920" y="1565280"/>
            <a:ext cx="3733560" cy="3235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>
            <a:off x="1496880" y="60948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3240" y="380880"/>
            <a:ext cx="142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enkriptovana poru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106720" y="1219320"/>
            <a:ext cx="30456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944440" y="14479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80988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66840" y="72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07440" y="9907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Arial"/>
              </a:rPr>
              <a:t>javni klju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2000" y="1219320"/>
            <a:ext cx="60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modu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2520" y="3581280"/>
            <a:ext cx="12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originalna poru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2133720" y="525744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3240" y="5943600"/>
            <a:ext cx="142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enkriptovana poru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209320" y="41911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25160" y="396252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00"/>
                </a:solidFill>
                <a:latin typeface="Arial"/>
              </a:rPr>
              <a:t>tajni klju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047760" y="44956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44960" y="4267080"/>
            <a:ext cx="60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modu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981080" y="22860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3240" y="2743200"/>
            <a:ext cx="124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</a:rPr>
              <a:t>originalna poru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8880" y="533520"/>
            <a:ext cx="30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RS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public key algorita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13560" y="304920"/>
            <a:ext cx="36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cija funkcionalne she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instancaPOVEZANO" descr=""/>
          <p:cNvPicPr/>
          <p:nvPr/>
        </p:nvPicPr>
        <p:blipFill>
          <a:blip r:embed="rId1"/>
          <a:stretch/>
        </p:blipFill>
        <p:spPr>
          <a:xfrm>
            <a:off x="533520" y="1352520"/>
            <a:ext cx="7257960" cy="41338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800600" y="609480"/>
            <a:ext cx="380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Realizaciju ove sheme vrsimo pri instancijaci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mnozaca, mapiranjem odgovarajucih porto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na odgovarajuce sig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41920" y="2787480"/>
            <a:ext cx="20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ravljacki proc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73000" y="1346040"/>
            <a:ext cx="426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 Prati brojace i enable flag-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ngcount</a:t>
            </a:r>
            <a:r>
              <a:rPr b="1" lang="en-US" sz="1200" spc="-1" strike="noStrike">
                <a:solidFill>
                  <a:srgbClr val="008080"/>
                </a:solidFill>
                <a:latin typeface="Arial"/>
              </a:rPr>
              <a:t>: process (clk, reset, done, ds, count, bothrd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8480" y="2336760"/>
            <a:ext cx="333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 Vrsi inicijalizaciju kvadrirajuceg mnoza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etupsqr</a:t>
            </a:r>
            <a:r>
              <a:rPr b="1" lang="en-US" sz="1200" spc="-1" strike="noStrike">
                <a:solidFill>
                  <a:srgbClr val="008080"/>
                </a:solidFill>
                <a:latin typeface="Arial"/>
              </a:rPr>
              <a:t>: process (clk, reset, done, 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3352680"/>
            <a:ext cx="464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 Vrsi inicijalizaciju standardnog modularnog mnoza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etupmult</a:t>
            </a:r>
            <a:r>
              <a:rPr b="1" lang="en-US" sz="1200" spc="-1" strike="noStrike">
                <a:solidFill>
                  <a:srgbClr val="008080"/>
                </a:solidFill>
                <a:latin typeface="Arial"/>
              </a:rPr>
              <a:t>: process (clk, reset, done, 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23840" y="4394160"/>
            <a:ext cx="399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 Vrsi sinhronizaciju sa okolinom i enable mnoza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crypto</a:t>
            </a:r>
            <a:r>
              <a:rPr b="1" lang="en-US" sz="1200" spc="-1" strike="noStrike">
                <a:solidFill>
                  <a:srgbClr val="008080"/>
                </a:solidFill>
                <a:latin typeface="Arial"/>
              </a:rPr>
              <a:t>: process (clk, reset, done, ds, count, bothrd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276640" y="1676160"/>
            <a:ext cx="1295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352600" y="266652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05240" y="31240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76640" y="3200400"/>
            <a:ext cx="1371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600" y="304920"/>
            <a:ext cx="25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izacija state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 proc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11760" y="304920"/>
            <a:ext cx="28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ngcou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brojacki pro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1520" y="1371600"/>
            <a:ext cx="444924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ngcou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process (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lk, reset, done, ds, count, bothrd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rese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t &lt;= (others =&gt; '0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d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&lt;= '1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if rising_edge(clk)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d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d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t &lt;= '0' &amp; inExp(KEYSIZE-1 downto 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d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&lt;= '0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if count = 0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bothrd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'1' and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ultg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'0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ypher &lt;= tempou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d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&lt;= '1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if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bothrd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ultg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'0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nt &lt;= '0' &amp; count(KEYSIZE-1 downto 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process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ngcou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457200"/>
            <a:ext cx="380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Glavni “watchdog” proces – prati brojace 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nable fleg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49880" y="2590920"/>
            <a:ext cx="22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Pri prvom ulasku u petlju, nak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reseta, ucitava se sa inExp bus-a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vrednost broja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029200" y="2895480"/>
            <a:ext cx="9144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6080" y="1660680"/>
            <a:ext cx="103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Reset sist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52680" y="1828800"/>
            <a:ext cx="22860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15000" y="3352680"/>
            <a:ext cx="3111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Ukoliko je counter, dekrementiran do n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i mnozenje zavrseno, na izlaz se izbacuj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enkriptovana vrednost i signalizira kraj operaci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594320" y="3581280"/>
            <a:ext cx="9144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16720" y="4343400"/>
            <a:ext cx="3111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Enkripcija je u toku, ukoliko su mnozaci spremni, vrsi se shift brojaca i inicira se slede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cik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495680" y="4572000"/>
            <a:ext cx="9144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15000" y="304920"/>
            <a:ext cx="469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etupsq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upravljanje jedinicom za kvadrir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4320" y="1523880"/>
            <a:ext cx="3196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etupsq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process (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lk, reset, done, d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rese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t &lt;= (others =&gt; '0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reg &lt;= (others =&gt; '0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if rising_edge(clk)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d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d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reg &lt;= inMo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t &lt;= indat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ot &lt;= squa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process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etupsq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6858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Prati signale i zadaje ulazne vrednosti jedinici za kvadrira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4680" y="1981080"/>
            <a:ext cx="110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Reset mnoza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581280" y="2149560"/>
            <a:ext cx="22860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5360" y="2955960"/>
            <a:ext cx="23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Prvi ciklus, ucitavaju se vrednost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sa bus-a u interne registre mnoza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352680" y="3124080"/>
            <a:ext cx="22860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718080"/>
            <a:ext cx="291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Kvadriranje je u toku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vracamo rezultat kvadriranja nazad u mnoz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124080" y="3886200"/>
            <a:ext cx="22860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13920" y="304920"/>
            <a:ext cx="349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etupmul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upravljanje mnozac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4480" y="838080"/>
            <a:ext cx="4496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etupmul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process (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lk, reset, done, d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rese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in &lt;= (others =&gt; '0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qrin &lt;= (others =&gt; '0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reg &lt;= (others =&gt; '0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if rising_edge(clk)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d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d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inExp(0)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in &lt;= indat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in(KEYSIZE-1 downto 1) &lt;= (others =&gt; '0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in(0) &lt;= '1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reg &lt;= inMo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qrin(KEYSIZE-1 downto 1) &lt;= (others =&gt; '0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qrin(0) &lt;= '1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in &lt;= temp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count(0)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qrin &lt;= squa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qrin(KEYSIZE-1 downto 1) &lt;= (others =&gt; '0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qrin(0) &lt;= '1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process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etupmul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8360" y="1447920"/>
            <a:ext cx="110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Reset mnoza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505320" y="1600200"/>
            <a:ext cx="22860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53352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Prati signale i zadaje ulazne vrednosti modularnom mnoza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67280" y="2590920"/>
            <a:ext cx="312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Prvi ciklus, ucitavaju se vrednosti sa bus-a u interne registre mnozaca. Ukoliko je najnizi 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eksponenta ‘1’, u registar mnozaca, ucitavamo vrednost poruke, inace ucitavamo ‘1’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581280" y="2895480"/>
            <a:ext cx="22860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3240" y="3657600"/>
            <a:ext cx="298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square setujemo na 1, da bi rezultat prv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mnozenja bio ili 1 ili inicijalna vrednost poru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800240" y="3809880"/>
            <a:ext cx="10666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59240" y="4572000"/>
            <a:ext cx="3643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Mnozenje je u toku, vracamo rezultat mnozenja na ul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Counter pomeramo jedno mesto udesn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Ako je najnizi bit eksponenta 1, vracamo rezulta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prethodnog kvadriranja u mnozac. Inace, setujem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vreadnost square signala na 1 da signaliziramo da nem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mnozenja ( U skladu sa Square And Multiply algoritmom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200040" y="4952880"/>
            <a:ext cx="20574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15720" y="304920"/>
            <a:ext cx="507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rypt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upravljanje procesom enkripcije/dekrip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6480" y="1523880"/>
            <a:ext cx="417024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crypt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process (</a:t>
            </a: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lk, reset, done, ds, count, bothrd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rese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ultg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&lt;= '0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if rising_edge(clk)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d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d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ultg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&lt;= '1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if count /= 0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bothrd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ultg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&lt;= '1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ultg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multg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&lt;= '0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process </a:t>
            </a: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crypt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83808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Zadaje enable signale mnozaci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u odgovarajucim trenutc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2720" y="1981080"/>
            <a:ext cx="21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Reset sistema : disable mnoza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3200400" y="2133720"/>
            <a:ext cx="22860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4120" y="2743200"/>
            <a:ext cx="2620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Prvi ciklus nakon postavljanja podatak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inicira prvi ciklus mnozen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971800" y="2895480"/>
            <a:ext cx="22860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3080" y="3276720"/>
            <a:ext cx="268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Nakon prvog puta, startuje mnozac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nakon sto isti zavrse prethodnu operacij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200400" y="3429000"/>
            <a:ext cx="22860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87120" y="4038480"/>
            <a:ext cx="18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Nakon startovanja mnozac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808080"/>
                </a:solidFill>
                <a:latin typeface="Arial"/>
              </a:rPr>
              <a:t>disable-uje ulaze mnoza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124080" y="4191120"/>
            <a:ext cx="22860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57320" y="304920"/>
            <a:ext cx="37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estiranje VHDL opisa RSA enkod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2514600"/>
            <a:ext cx="7010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reiramo standardni Testbench unutar koga instanciramo RSACypher entit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reiremo stimulus procese, unutar kojih zadajemo test vek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ajemo ulazne (plaintext) podatke i odgovarajuce kljuce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ajemo odgovarajuce sinhronizacione signale kojima iniciramo proces enkripci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matramo izlazni signal ready, cija vrednost “1”, signalizira kraj operaci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 izlazu ocekujemo enkriptovane ulazne podat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55760" y="1422360"/>
            <a:ext cx="37256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-- *** Test Bench - User Defined Section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808000"/>
                </a:solidFill>
                <a:latin typeface="Arial"/>
              </a:rPr>
              <a:t>TB: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 for 120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t &lt;= '1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 &lt;= '0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 for 20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 until clk = '0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t &lt;= '0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 until clk = '1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 until clk = '0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exp &lt;= x"00903ad9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mod &lt;= x"03b2c159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ata &lt;= x"00724183"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 until clk = '1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 for 2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 &lt;= '1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 until ready = '0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 &lt;= '0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 until ready = '1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51080" y="2413080"/>
            <a:ext cx="35913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808000"/>
                </a:solidFill>
                <a:latin typeface="Arial"/>
              </a:rPr>
              <a:t>ClkGen :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t for 5300ps; -- will wait for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clk = '1'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k &lt;= '0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k &lt;= '1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 PROCE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-- *** End Test Bench - User Defined Section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9480" y="304920"/>
            <a:ext cx="35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bench : zadavanje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 test vekt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914400" y="808200"/>
            <a:ext cx="7315200" cy="58528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58760" y="304920"/>
            <a:ext cx="26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acija u 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Active HD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1RSASIM" descr=""/>
          <p:cNvPicPr/>
          <p:nvPr/>
        </p:nvPicPr>
        <p:blipFill>
          <a:blip r:embed="rId1"/>
          <a:stretch/>
        </p:blipFill>
        <p:spPr>
          <a:xfrm>
            <a:off x="200160" y="1676520"/>
            <a:ext cx="8638920" cy="21556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 flipV="1">
            <a:off x="6248520" y="2666520"/>
            <a:ext cx="129528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51680" y="5181480"/>
            <a:ext cx="358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ypher se dobija tek nakon ~ 7000 ns 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920" y="304920"/>
            <a:ext cx="325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Active HD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rezultati simula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2600" y="457200"/>
            <a:ext cx="22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izacija :: K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9d5c76b09c32b39de8ffb8b470845479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1600200" cy="193680"/>
          </a:xfrm>
          <a:prstGeom prst="rect">
            <a:avLst/>
          </a:prstGeom>
          <a:ln w="0">
            <a:noFill/>
          </a:ln>
        </p:spPr>
      </p:pic>
      <p:pic>
        <p:nvPicPr>
          <p:cNvPr id="75" name="98bbb8e6e089c12c4490e4e58822e079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1600200" cy="228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62320" y="15238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99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12200" y="1371600"/>
            <a:ext cx="321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i uredjaj vrsi i enkripciju i dekripciju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 zavistosti od izabranih ulaza 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SA-CHIP" descr=""/>
          <p:cNvPicPr/>
          <p:nvPr/>
        </p:nvPicPr>
        <p:blipFill>
          <a:blip r:embed="rId3"/>
          <a:stretch/>
        </p:blipFill>
        <p:spPr>
          <a:xfrm>
            <a:off x="4419720" y="2500200"/>
            <a:ext cx="4343400" cy="290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4560" y="3352680"/>
            <a:ext cx="4038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iramo samo enkripciju/dekripciju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 ulazimo u generisanje kljuceva, sto 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icno zadatak drugog uredjaja ili jedinice, 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ucaju System-on-chip sist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61640" y="304920"/>
            <a:ext cx="394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ynplicity P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Implementacija Dizaj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synplicity_work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72400" cy="54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763120" cy="4114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69200" y="304920"/>
            <a:ext cx="65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ynplicity P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Implementacija na Xilinx Spartan II FPGA platfor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end" descr=""/>
          <p:cNvPicPr/>
          <p:nvPr/>
        </p:nvPicPr>
        <p:blipFill>
          <a:blip r:embed="rId1"/>
          <a:stretch/>
        </p:blipFill>
        <p:spPr>
          <a:xfrm>
            <a:off x="4724280" y="5105520"/>
            <a:ext cx="4343400" cy="16858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80880" y="2152800"/>
            <a:ext cx="7010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cija efikasnijeg algoritma modularnog mnozen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cija Wishbone-kompatibilnog interfejsa, za System-On-Chip realizaci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davanje ulaznog FIFO baf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rska za 128 i 256-bitne kljuce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izacija internog generatora kriptografskih kljuce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0680" y="1339920"/>
            <a:ext cx="24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oguca poboljsanja 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6760" y="1143000"/>
            <a:ext cx="551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zvoj i testiranje VHDL mod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L sint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cija na Xilinx Spartan II / Virtex FPGA platfor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1760" y="457200"/>
            <a:ext cx="229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izacija :: Zahtevi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9560" y="4159080"/>
            <a:ext cx="649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roblem #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Kako efikasno realizovati funkciju mnozenja po modulu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Resenj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Shift-And-Add algorit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roblem #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: Kako efikasno realizovati funkciju eksponencijacije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Resenj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Square &amp; Multiply algorit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9720" y="3517920"/>
            <a:ext cx="233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izacija :: Probl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9d5c76b09c32b39de8ffb8b470845479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726240" y="3006720"/>
            <a:ext cx="1600200" cy="193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04400" y="5683320"/>
            <a:ext cx="57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Prvo treba realizovati jedinicu za modularno mnozenje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97920" y="2438280"/>
            <a:ext cx="24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snovna Aritmeticka operaci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redjaja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lip_5" descr=""/>
          <p:cNvPicPr/>
          <p:nvPr/>
        </p:nvPicPr>
        <p:blipFill>
          <a:blip r:embed="rId1"/>
          <a:stretch/>
        </p:blipFill>
        <p:spPr>
          <a:xfrm>
            <a:off x="1752480" y="1154160"/>
            <a:ext cx="5486400" cy="4789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5120" y="457200"/>
            <a:ext cx="36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Active HD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model razvoja projek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83200" y="2819520"/>
            <a:ext cx="770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rak 1 : Implementacija Modular Multiplier jedi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74760" y="30492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odularno Mnoze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2273400"/>
            <a:ext cx="5486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 svaki bit prvog mnozioca, vrednost drugog se shift-u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 svako “1” u prvom mnoziocu, shift-ovana vrednost drugog se dodaje proizvo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cija se zavrsava kada su “iskoriscene” sve jedin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 prvom mnozio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3160" y="30492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modularno mnozenj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06280" y="609480"/>
            <a:ext cx="18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out = X * Y mod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160" y="1663560"/>
            <a:ext cx="25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Shift and Add algorita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322800" cy="4876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8600" y="12193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) Relizacija mnozaca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981080"/>
            <a:ext cx="6019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rsimo klasicno Shift-And-Add mnozen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bijamo :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P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ultiplicand * multipli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 zavisnosti od najvisih bitova P1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) Ako je P1 &lt; n =&gt; na izlaz izbacujeno 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 Ako je n &lt; P1 &lt; 2n =&gt; na izlaz izbacujemo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P2 = P1-modu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) Ako je P1 &gt; 2*moduo =&gt; izbacujemo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P3 = P1-(2*modu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&gt; na izlazu dobijamo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moduo proizvod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4760" y="30492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odularno Mnoze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2193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) Relizacija modularnog mnozaca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3160" y="30492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modularno mnozenj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06280" y="609480"/>
            <a:ext cx="18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out = X * Y mod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1:53:00Z</dcterms:created>
  <dc:creator>Aleksandar Bradic</dc:creator>
  <dc:description/>
  <dc:language>en-US</dc:language>
  <cp:lastModifiedBy>Aleksandar Bradic</cp:lastModifiedBy>
  <dcterms:modified xsi:type="dcterms:W3CDTF">2006-01-19T16:42:03Z</dcterms:modified>
  <cp:revision>119</cp:revision>
  <dc:subject/>
  <dc:title>PowerPoint Presentation</dc:title>
</cp:coreProperties>
</file>